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CC16-C297-4386-8D7A-D719D7D2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FE8E-E8CF-442F-878E-FF04E6BE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8BD5-99D2-4F41-9B5B-5C77D917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093D-978A-4E18-9AE2-FBF69583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6586-9C66-4751-A4A0-5309F075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FA40-2394-409A-85BA-4F3AD9CD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5C13-410F-4131-9EF1-3EB8F2DA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F6C9-78B2-48C7-96D6-E1AA2BBE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3473-662C-46C7-9C24-BBEFF437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99FE-6E61-40E0-8656-ECBCC660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1082-831C-429B-A97D-D135483F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8535-5194-4F18-81C1-2FA3A492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3282-4CD1-47F7-8CB4-BB5F07BE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F90F-062F-4A66-A7D7-6A6E3391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3E7D-3B40-4D49-BB6B-5BF6B716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9408-1F0F-4577-B9E8-B14F6233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ACFE-F7E4-4684-868D-C5D9C63D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0F31-B93F-44B1-97F2-BB5ED21E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CB51-8118-4D1F-96C4-C8F6288F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C632-9DF5-48D2-B6DD-35C72E4F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9297-FF59-48D0-BEA9-48B10815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E9D7-18FD-4EDB-B4B1-1864FA3B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27E3-F657-45E2-802C-9BE3992D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F8FE-5A6D-4F7B-BBF4-02337415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83DB-94A9-42DB-96CC-AA97CA4BD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325A-B3A9-4970-9CD1-E80F807BDD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876312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b7"/>
                </a:solidFill>
                <a:latin typeface="Comic Sans MS"/>
              </a:rPr>
              <a:t>Васкуларне</a:t>
            </a:r>
            <a:r>
              <a:rPr b="1" lang="sr-Latn-CS" sz="48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800" spc="-1" strike="noStrike">
                <a:solidFill>
                  <a:srgbClr val="ffffb7"/>
                </a:solidFill>
                <a:latin typeface="Comic Sans MS"/>
              </a:rPr>
              <a:t>болести</a:t>
            </a: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800" spc="-1" strike="noStrike">
                <a:solidFill>
                  <a:srgbClr val="ffffb7"/>
                </a:solidFill>
                <a:latin typeface="Comic Sans MS"/>
              </a:rPr>
              <a:t>мозга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653000"/>
            <a:ext cx="67816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Гордан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Тонч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omic Sans MS"/>
              </a:rPr>
              <a:t>Исхемични мождани уда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omic Sans MS"/>
              </a:rPr>
              <a:t>Хеморагијски мождани уда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omic Sans MS"/>
              </a:rPr>
              <a:t>Тромбозе венских сину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Исхемични мождани удар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7720" y="1557000"/>
            <a:ext cx="80074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рекид мождане циркулације због запушења крвног су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ромб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Ембол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-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ипоперфузиј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5" descr="Feature post image"/>
          <p:cNvPicPr/>
          <p:nvPr/>
        </p:nvPicPr>
        <p:blipFill>
          <a:blip r:embed="rId1"/>
          <a:stretch/>
        </p:blipFill>
        <p:spPr>
          <a:xfrm>
            <a:off x="3809880" y="4076640"/>
            <a:ext cx="533412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356840"/>
            <a:ext cx="80074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2004. Национални водич за исхемијски мождани удар – фибринолитичка терапија у прва 3 сата од почетка симпт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15. мај 2006. у 9</a:t>
            </a:r>
            <a:r>
              <a:rPr b="0" lang="sr-CS" sz="2400" spc="-1" strike="noStrike" baseline="30000">
                <a:solidFill>
                  <a:srgbClr val="ffffff"/>
                </a:solidFill>
                <a:latin typeface="Comic Sans MS"/>
              </a:rPr>
              <a:t>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Ј, стар 53 год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ешњ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жењен, отац 2 де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И хоспитализација у Центру за неурологиј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ијемни неуролог обавестио колеге о потенцијалном кандидату за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фибринололиз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ибринолиза - тромболи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п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еканализац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омбозиран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н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у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стој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а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отоколар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п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иш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0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оди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аскуларн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рургиј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ар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20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оди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ронарн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р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Главн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егоб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8845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зненад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стал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лабос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ев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ог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елимич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у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ртоглавиц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гоб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чел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9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 сати (пре 45 минут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м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авобољ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враћ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зив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тн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моћ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Лекар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хитн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помоћ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кој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ј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тигао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брзо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по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позиву,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аветуј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пацијенту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да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ачека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да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тегоб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повуку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па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ако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н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повуку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да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од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болницу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!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цијен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ећ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ма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хват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шт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гађ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лаз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т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ницу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, НИЈЕ ПОСЛУШАО ДОКТ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Мождани удар у Србиј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о 2004. трећи ред хит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д 2004. први ред хит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Болесник одмах (унутар 3 до 4.5 сати) примио фибринолитичку терапиј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Отпуштен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10.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дана потпуно опорављ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ожда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уда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2276640"/>
            <a:ext cx="80074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г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четак  - није увек та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Р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“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м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арк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”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ез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асн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линичк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нифест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ми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”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онам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з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њего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кућа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ис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позна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скрет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зраже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то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Исхемични м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ожда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уда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4502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м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рзи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зво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ајањ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т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1.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ТИ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ункционал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позоре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теће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½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жи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ко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И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жи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нутар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2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а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И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90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а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ко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И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изи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10-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м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1/5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тход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И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2.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Комплетан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ил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табилан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ефици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тпу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зви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посред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четку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ста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промење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око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72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звој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схемич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ожда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уда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Атеросклероза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великих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крвних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удова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6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т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асилар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мболизац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Ц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Кардиоген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емболизам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1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Лакунарн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инфаркт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ерформант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удо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убљ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елов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з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аку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15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удо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Ређ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етиолошк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фактор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лађ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ц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тифосфолипид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нд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лихоартериопат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аротидн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ртер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секц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аротид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ртер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жда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дар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нтекст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В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лееп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пне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аскулитис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ем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лицитем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агул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Васкуларне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Comic Sans MS"/>
              </a:rPr>
              <a:t>(кардиоваскуларне)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ождан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д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Инфаркт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иокар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Периферн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васкуларн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боле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little man"/>
          <p:cNvPicPr/>
          <p:nvPr/>
        </p:nvPicPr>
        <p:blipFill>
          <a:blip r:embed="rId1"/>
          <a:srcRect l="0" t="10538" r="0" b="18169"/>
          <a:stretch/>
        </p:blipFill>
        <p:spPr>
          <a:xfrm>
            <a:off x="3348000" y="1149480"/>
            <a:ext cx="6858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схемич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ожда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уда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6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тензив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нцефалопат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авобољ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враћ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ид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нфузнос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енерализива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п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п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м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окалн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наков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чет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ундус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паза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л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ртер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де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пи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клампс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себа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и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удноћ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окал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обал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де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зг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етехијал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мораг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кут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о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ар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ргент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т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дици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та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етм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Прогноз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исхемичног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ожданог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уда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3640" y="1643040"/>
            <a:ext cx="8521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Морталитет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вел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в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дељ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в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сец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а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ош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нутар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в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оди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ош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66"/>
                </a:solidFill>
                <a:latin typeface="Comic Sans MS"/>
              </a:rPr>
              <a:t>Инвалидност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Предиктор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лош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прогно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м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чет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огрес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сив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арк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Р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дм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жа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тор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ефиц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зостана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бољшањ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в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дељ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Фактор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риз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2637000"/>
            <a:ext cx="80074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ж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тица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ж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тица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Фактор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ризик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br>
              <a:rPr sz="4400"/>
            </a:b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н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кој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н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ож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утица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2708280"/>
            <a:ext cx="8964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тарос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сл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55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оди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вако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еценијо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изи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двостручу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л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ећ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изи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шкара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с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ећ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изи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црн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жут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слеђ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енетск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актор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актор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реди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тил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живот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једничк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едн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одиц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Фактори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ризика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br>
              <a:rPr sz="4000"/>
            </a:b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на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које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се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може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утицат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тенз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3x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ећ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из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спешнос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ечењ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50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ибрилац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тком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–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15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лађ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30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к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80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оди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тикоагулант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мањујеризи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7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рц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ардиомиопат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ронар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листа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м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14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м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рча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боље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Шећер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већав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изи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у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слипидем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већав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изи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м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М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уше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цигарет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већа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изи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50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ча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сивних (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од.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ко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стан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ушењ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изи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њ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50%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ормализу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сл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5-9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од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88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Потенцијал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фактор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риз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повољ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фека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стој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вољ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кументов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ојаз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изич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актив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чи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схра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лоупотреб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лкох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хомоцистеинем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упституцио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ормонс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потреб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ралн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нтрацепти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ранзитор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схемич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ата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2276280"/>
            <a:ext cx="800748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лар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стој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збиљ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штеће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жда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циркул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елик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актор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изи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зв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зро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с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а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оперфуз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мболиз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омб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том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влач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15-60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инут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мауросис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уг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x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5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инут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– раније 24 с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МРИ налаз уред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ранзитор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схемич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ата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Каротидн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ли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мауросис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уг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сфаз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мипаре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нтралатерал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нтралатерал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мианопс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Вертебробазиларн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ли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плоп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ертиг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зартр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сфаг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лтер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ндром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мипарез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вадрипаре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бостра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убита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и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убита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вес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етк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ранзитор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схемич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атак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тно стање у медици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јагностичк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ступа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с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а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Дијагноз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исхемичног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2492280"/>
            <a:ext cx="800748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ргент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т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р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смере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ач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ог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ви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рст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пијск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исту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огно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Васкуларне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основ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атеросклер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Деле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већину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фактор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риз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често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коегзистирају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ал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им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разлик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КМБ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дислипидемиј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холестерол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фибринолиз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........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3352680" y="1447920"/>
            <a:ext cx="7578360" cy="3774600"/>
            <a:chOff x="3352680" y="1447920"/>
            <a:chExt cx="7578360" cy="3774600"/>
          </a:xfrm>
        </p:grpSpPr>
        <p:sp>
          <p:nvSpPr>
            <p:cNvPr id="106" name="Freeform 5"/>
            <p:cNvSpPr/>
            <p:nvPr/>
          </p:nvSpPr>
          <p:spPr>
            <a:xfrm>
              <a:off x="6220440" y="1614960"/>
              <a:ext cx="1193040" cy="1121040"/>
            </a:xfrm>
            <a:custGeom>
              <a:avLst/>
              <a:gdLst>
                <a:gd name="textAreaLeft" fmla="*/ 0 w 1193040"/>
                <a:gd name="textAreaRight" fmla="*/ 1193400 w 119304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812" h="797">
                  <a:moveTo>
                    <a:pt x="0" y="718"/>
                  </a:moveTo>
                  <a:lnTo>
                    <a:pt x="0" y="690"/>
                  </a:lnTo>
                  <a:lnTo>
                    <a:pt x="2" y="661"/>
                  </a:lnTo>
                  <a:lnTo>
                    <a:pt x="4" y="633"/>
                  </a:lnTo>
                  <a:lnTo>
                    <a:pt x="7" y="606"/>
                  </a:lnTo>
                  <a:lnTo>
                    <a:pt x="9" y="592"/>
                  </a:lnTo>
                  <a:lnTo>
                    <a:pt x="11" y="578"/>
                  </a:lnTo>
                  <a:lnTo>
                    <a:pt x="16" y="551"/>
                  </a:lnTo>
                  <a:lnTo>
                    <a:pt x="19" y="538"/>
                  </a:lnTo>
                  <a:lnTo>
                    <a:pt x="22" y="524"/>
                  </a:lnTo>
                  <a:lnTo>
                    <a:pt x="29" y="498"/>
                  </a:lnTo>
                  <a:lnTo>
                    <a:pt x="37" y="471"/>
                  </a:lnTo>
                  <a:lnTo>
                    <a:pt x="45" y="445"/>
                  </a:lnTo>
                  <a:lnTo>
                    <a:pt x="54" y="420"/>
                  </a:lnTo>
                  <a:lnTo>
                    <a:pt x="64" y="395"/>
                  </a:lnTo>
                  <a:lnTo>
                    <a:pt x="75" y="370"/>
                  </a:lnTo>
                  <a:lnTo>
                    <a:pt x="86" y="346"/>
                  </a:lnTo>
                  <a:lnTo>
                    <a:pt x="99" y="322"/>
                  </a:lnTo>
                  <a:lnTo>
                    <a:pt x="112" y="299"/>
                  </a:lnTo>
                  <a:lnTo>
                    <a:pt x="125" y="276"/>
                  </a:lnTo>
                  <a:lnTo>
                    <a:pt x="140" y="254"/>
                  </a:lnTo>
                  <a:lnTo>
                    <a:pt x="155" y="232"/>
                  </a:lnTo>
                  <a:lnTo>
                    <a:pt x="170" y="211"/>
                  </a:lnTo>
                  <a:lnTo>
                    <a:pt x="179" y="200"/>
                  </a:lnTo>
                  <a:lnTo>
                    <a:pt x="187" y="190"/>
                  </a:lnTo>
                  <a:lnTo>
                    <a:pt x="204" y="170"/>
                  </a:lnTo>
                  <a:lnTo>
                    <a:pt x="222" y="150"/>
                  </a:lnTo>
                  <a:lnTo>
                    <a:pt x="240" y="131"/>
                  </a:lnTo>
                  <a:lnTo>
                    <a:pt x="259" y="112"/>
                  </a:lnTo>
                  <a:lnTo>
                    <a:pt x="278" y="94"/>
                  </a:lnTo>
                  <a:lnTo>
                    <a:pt x="288" y="85"/>
                  </a:lnTo>
                  <a:lnTo>
                    <a:pt x="298" y="77"/>
                  </a:lnTo>
                  <a:lnTo>
                    <a:pt x="319" y="60"/>
                  </a:lnTo>
                  <a:lnTo>
                    <a:pt x="340" y="44"/>
                  </a:lnTo>
                  <a:lnTo>
                    <a:pt x="361" y="28"/>
                  </a:lnTo>
                  <a:lnTo>
                    <a:pt x="383" y="14"/>
                  </a:lnTo>
                  <a:lnTo>
                    <a:pt x="406" y="0"/>
                  </a:lnTo>
                  <a:lnTo>
                    <a:pt x="428" y="14"/>
                  </a:lnTo>
                  <a:lnTo>
                    <a:pt x="451" y="28"/>
                  </a:lnTo>
                  <a:lnTo>
                    <a:pt x="472" y="44"/>
                  </a:lnTo>
                  <a:lnTo>
                    <a:pt x="483" y="52"/>
                  </a:lnTo>
                  <a:lnTo>
                    <a:pt x="493" y="60"/>
                  </a:lnTo>
                  <a:lnTo>
                    <a:pt x="514" y="77"/>
                  </a:lnTo>
                  <a:lnTo>
                    <a:pt x="534" y="94"/>
                  </a:lnTo>
                  <a:lnTo>
                    <a:pt x="553" y="112"/>
                  </a:lnTo>
                  <a:lnTo>
                    <a:pt x="563" y="121"/>
                  </a:lnTo>
                  <a:lnTo>
                    <a:pt x="572" y="131"/>
                  </a:lnTo>
                  <a:lnTo>
                    <a:pt x="590" y="150"/>
                  </a:lnTo>
                  <a:lnTo>
                    <a:pt x="608" y="170"/>
                  </a:lnTo>
                  <a:lnTo>
                    <a:pt x="625" y="190"/>
                  </a:lnTo>
                  <a:lnTo>
                    <a:pt x="641" y="211"/>
                  </a:lnTo>
                  <a:lnTo>
                    <a:pt x="657" y="232"/>
                  </a:lnTo>
                  <a:lnTo>
                    <a:pt x="672" y="254"/>
                  </a:lnTo>
                  <a:lnTo>
                    <a:pt x="686" y="276"/>
                  </a:lnTo>
                  <a:lnTo>
                    <a:pt x="700" y="299"/>
                  </a:lnTo>
                  <a:lnTo>
                    <a:pt x="713" y="322"/>
                  </a:lnTo>
                  <a:lnTo>
                    <a:pt x="725" y="346"/>
                  </a:lnTo>
                  <a:lnTo>
                    <a:pt x="737" y="370"/>
                  </a:lnTo>
                  <a:lnTo>
                    <a:pt x="748" y="395"/>
                  </a:lnTo>
                  <a:lnTo>
                    <a:pt x="758" y="420"/>
                  </a:lnTo>
                  <a:lnTo>
                    <a:pt x="767" y="445"/>
                  </a:lnTo>
                  <a:lnTo>
                    <a:pt x="775" y="471"/>
                  </a:lnTo>
                  <a:lnTo>
                    <a:pt x="783" y="498"/>
                  </a:lnTo>
                  <a:lnTo>
                    <a:pt x="786" y="511"/>
                  </a:lnTo>
                  <a:lnTo>
                    <a:pt x="789" y="524"/>
                  </a:lnTo>
                  <a:lnTo>
                    <a:pt x="795" y="551"/>
                  </a:lnTo>
                  <a:lnTo>
                    <a:pt x="800" y="578"/>
                  </a:lnTo>
                  <a:lnTo>
                    <a:pt x="804" y="606"/>
                  </a:lnTo>
                  <a:lnTo>
                    <a:pt x="808" y="633"/>
                  </a:lnTo>
                  <a:lnTo>
                    <a:pt x="809" y="647"/>
                  </a:lnTo>
                  <a:lnTo>
                    <a:pt x="810" y="661"/>
                  </a:lnTo>
                  <a:lnTo>
                    <a:pt x="811" y="675"/>
                  </a:lnTo>
                  <a:lnTo>
                    <a:pt x="811" y="690"/>
                  </a:lnTo>
                  <a:lnTo>
                    <a:pt x="812" y="718"/>
                  </a:lnTo>
                  <a:lnTo>
                    <a:pt x="812" y="738"/>
                  </a:lnTo>
                  <a:lnTo>
                    <a:pt x="811" y="758"/>
                  </a:lnTo>
                  <a:lnTo>
                    <a:pt x="810" y="777"/>
                  </a:lnTo>
                  <a:lnTo>
                    <a:pt x="808" y="797"/>
                  </a:lnTo>
                  <a:lnTo>
                    <a:pt x="785" y="783"/>
                  </a:lnTo>
                  <a:lnTo>
                    <a:pt x="760" y="770"/>
                  </a:lnTo>
                  <a:lnTo>
                    <a:pt x="736" y="758"/>
                  </a:lnTo>
                  <a:lnTo>
                    <a:pt x="723" y="752"/>
                  </a:lnTo>
                  <a:lnTo>
                    <a:pt x="710" y="746"/>
                  </a:lnTo>
                  <a:lnTo>
                    <a:pt x="685" y="736"/>
                  </a:lnTo>
                  <a:lnTo>
                    <a:pt x="672" y="731"/>
                  </a:lnTo>
                  <a:lnTo>
                    <a:pt x="659" y="726"/>
                  </a:lnTo>
                  <a:lnTo>
                    <a:pt x="632" y="717"/>
                  </a:lnTo>
                  <a:lnTo>
                    <a:pt x="606" y="709"/>
                  </a:lnTo>
                  <a:lnTo>
                    <a:pt x="592" y="706"/>
                  </a:lnTo>
                  <a:lnTo>
                    <a:pt x="578" y="702"/>
                  </a:lnTo>
                  <a:lnTo>
                    <a:pt x="551" y="696"/>
                  </a:lnTo>
                  <a:lnTo>
                    <a:pt x="523" y="691"/>
                  </a:lnTo>
                  <a:lnTo>
                    <a:pt x="495" y="686"/>
                  </a:lnTo>
                  <a:lnTo>
                    <a:pt x="466" y="683"/>
                  </a:lnTo>
                  <a:lnTo>
                    <a:pt x="438" y="680"/>
                  </a:lnTo>
                  <a:lnTo>
                    <a:pt x="409" y="679"/>
                  </a:lnTo>
                  <a:lnTo>
                    <a:pt x="379" y="678"/>
                  </a:lnTo>
                  <a:lnTo>
                    <a:pt x="354" y="679"/>
                  </a:lnTo>
                  <a:lnTo>
                    <a:pt x="329" y="680"/>
                  </a:lnTo>
                  <a:lnTo>
                    <a:pt x="304" y="682"/>
                  </a:lnTo>
                  <a:lnTo>
                    <a:pt x="279" y="684"/>
                  </a:lnTo>
                  <a:lnTo>
                    <a:pt x="254" y="688"/>
                  </a:lnTo>
                  <a:lnTo>
                    <a:pt x="230" y="692"/>
                  </a:lnTo>
                  <a:lnTo>
                    <a:pt x="206" y="696"/>
                  </a:lnTo>
                  <a:lnTo>
                    <a:pt x="182" y="702"/>
                  </a:lnTo>
                  <a:lnTo>
                    <a:pt x="158" y="708"/>
                  </a:lnTo>
                  <a:lnTo>
                    <a:pt x="135" y="715"/>
                  </a:lnTo>
                  <a:lnTo>
                    <a:pt x="123" y="718"/>
                  </a:lnTo>
                  <a:lnTo>
                    <a:pt x="112" y="722"/>
                  </a:lnTo>
                  <a:lnTo>
                    <a:pt x="89" y="730"/>
                  </a:lnTo>
                  <a:lnTo>
                    <a:pt x="67" y="739"/>
                  </a:lnTo>
                  <a:lnTo>
                    <a:pt x="45" y="748"/>
                  </a:lnTo>
                  <a:lnTo>
                    <a:pt x="23" y="758"/>
                  </a:lnTo>
                  <a:lnTo>
                    <a:pt x="1" y="768"/>
                  </a:lnTo>
                  <a:lnTo>
                    <a:pt x="0" y="743"/>
                  </a:lnTo>
                  <a:lnTo>
                    <a:pt x="0" y="718"/>
                  </a:lnTo>
                  <a:close/>
                </a:path>
              </a:pathLst>
            </a:custGeom>
            <a:solidFill>
              <a:srgbClr val="6e6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>
              <a:off x="6222240" y="2568600"/>
              <a:ext cx="1185480" cy="1064520"/>
            </a:xfrm>
            <a:custGeom>
              <a:avLst/>
              <a:gdLst>
                <a:gd name="textAreaLeft" fmla="*/ 0 w 1185480"/>
                <a:gd name="textAreaRight" fmla="*/ 1185480 w 118548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807" h="757">
                  <a:moveTo>
                    <a:pt x="0" y="90"/>
                  </a:moveTo>
                  <a:lnTo>
                    <a:pt x="22" y="80"/>
                  </a:lnTo>
                  <a:lnTo>
                    <a:pt x="44" y="70"/>
                  </a:lnTo>
                  <a:lnTo>
                    <a:pt x="66" y="61"/>
                  </a:lnTo>
                  <a:lnTo>
                    <a:pt x="88" y="52"/>
                  </a:lnTo>
                  <a:lnTo>
                    <a:pt x="111" y="44"/>
                  </a:lnTo>
                  <a:lnTo>
                    <a:pt x="134" y="37"/>
                  </a:lnTo>
                  <a:lnTo>
                    <a:pt x="157" y="30"/>
                  </a:lnTo>
                  <a:lnTo>
                    <a:pt x="181" y="24"/>
                  </a:lnTo>
                  <a:lnTo>
                    <a:pt x="205" y="18"/>
                  </a:lnTo>
                  <a:lnTo>
                    <a:pt x="229" y="14"/>
                  </a:lnTo>
                  <a:lnTo>
                    <a:pt x="253" y="10"/>
                  </a:lnTo>
                  <a:lnTo>
                    <a:pt x="278" y="6"/>
                  </a:lnTo>
                  <a:lnTo>
                    <a:pt x="303" y="4"/>
                  </a:lnTo>
                  <a:lnTo>
                    <a:pt x="328" y="2"/>
                  </a:lnTo>
                  <a:lnTo>
                    <a:pt x="353" y="1"/>
                  </a:lnTo>
                  <a:lnTo>
                    <a:pt x="378" y="0"/>
                  </a:lnTo>
                  <a:lnTo>
                    <a:pt x="408" y="1"/>
                  </a:lnTo>
                  <a:lnTo>
                    <a:pt x="422" y="1"/>
                  </a:lnTo>
                  <a:lnTo>
                    <a:pt x="437" y="2"/>
                  </a:lnTo>
                  <a:lnTo>
                    <a:pt x="465" y="5"/>
                  </a:lnTo>
                  <a:lnTo>
                    <a:pt x="494" y="8"/>
                  </a:lnTo>
                  <a:lnTo>
                    <a:pt x="522" y="13"/>
                  </a:lnTo>
                  <a:lnTo>
                    <a:pt x="550" y="18"/>
                  </a:lnTo>
                  <a:lnTo>
                    <a:pt x="577" y="24"/>
                  </a:lnTo>
                  <a:lnTo>
                    <a:pt x="605" y="31"/>
                  </a:lnTo>
                  <a:lnTo>
                    <a:pt x="631" y="39"/>
                  </a:lnTo>
                  <a:lnTo>
                    <a:pt x="658" y="48"/>
                  </a:lnTo>
                  <a:lnTo>
                    <a:pt x="671" y="53"/>
                  </a:lnTo>
                  <a:lnTo>
                    <a:pt x="684" y="58"/>
                  </a:lnTo>
                  <a:lnTo>
                    <a:pt x="709" y="68"/>
                  </a:lnTo>
                  <a:lnTo>
                    <a:pt x="735" y="80"/>
                  </a:lnTo>
                  <a:lnTo>
                    <a:pt x="759" y="92"/>
                  </a:lnTo>
                  <a:lnTo>
                    <a:pt x="784" y="105"/>
                  </a:lnTo>
                  <a:lnTo>
                    <a:pt x="807" y="119"/>
                  </a:lnTo>
                  <a:lnTo>
                    <a:pt x="805" y="144"/>
                  </a:lnTo>
                  <a:lnTo>
                    <a:pt x="801" y="169"/>
                  </a:lnTo>
                  <a:lnTo>
                    <a:pt x="797" y="194"/>
                  </a:lnTo>
                  <a:lnTo>
                    <a:pt x="792" y="218"/>
                  </a:lnTo>
                  <a:lnTo>
                    <a:pt x="786" y="243"/>
                  </a:lnTo>
                  <a:lnTo>
                    <a:pt x="780" y="267"/>
                  </a:lnTo>
                  <a:lnTo>
                    <a:pt x="773" y="291"/>
                  </a:lnTo>
                  <a:lnTo>
                    <a:pt x="765" y="314"/>
                  </a:lnTo>
                  <a:lnTo>
                    <a:pt x="757" y="337"/>
                  </a:lnTo>
                  <a:lnTo>
                    <a:pt x="748" y="360"/>
                  </a:lnTo>
                  <a:lnTo>
                    <a:pt x="738" y="383"/>
                  </a:lnTo>
                  <a:lnTo>
                    <a:pt x="727" y="405"/>
                  </a:lnTo>
                  <a:lnTo>
                    <a:pt x="716" y="427"/>
                  </a:lnTo>
                  <a:lnTo>
                    <a:pt x="705" y="448"/>
                  </a:lnTo>
                  <a:lnTo>
                    <a:pt x="693" y="469"/>
                  </a:lnTo>
                  <a:lnTo>
                    <a:pt x="680" y="490"/>
                  </a:lnTo>
                  <a:lnTo>
                    <a:pt x="667" y="510"/>
                  </a:lnTo>
                  <a:lnTo>
                    <a:pt x="653" y="530"/>
                  </a:lnTo>
                  <a:lnTo>
                    <a:pt x="638" y="549"/>
                  </a:lnTo>
                  <a:lnTo>
                    <a:pt x="623" y="568"/>
                  </a:lnTo>
                  <a:lnTo>
                    <a:pt x="608" y="587"/>
                  </a:lnTo>
                  <a:lnTo>
                    <a:pt x="592" y="605"/>
                  </a:lnTo>
                  <a:lnTo>
                    <a:pt x="575" y="622"/>
                  </a:lnTo>
                  <a:lnTo>
                    <a:pt x="558" y="639"/>
                  </a:lnTo>
                  <a:lnTo>
                    <a:pt x="549" y="648"/>
                  </a:lnTo>
                  <a:lnTo>
                    <a:pt x="540" y="656"/>
                  </a:lnTo>
                  <a:lnTo>
                    <a:pt x="522" y="672"/>
                  </a:lnTo>
                  <a:lnTo>
                    <a:pt x="504" y="688"/>
                  </a:lnTo>
                  <a:lnTo>
                    <a:pt x="485" y="703"/>
                  </a:lnTo>
                  <a:lnTo>
                    <a:pt x="466" y="717"/>
                  </a:lnTo>
                  <a:lnTo>
                    <a:pt x="446" y="731"/>
                  </a:lnTo>
                  <a:lnTo>
                    <a:pt x="426" y="745"/>
                  </a:lnTo>
                  <a:lnTo>
                    <a:pt x="405" y="757"/>
                  </a:lnTo>
                  <a:lnTo>
                    <a:pt x="384" y="744"/>
                  </a:lnTo>
                  <a:lnTo>
                    <a:pt x="363" y="730"/>
                  </a:lnTo>
                  <a:lnTo>
                    <a:pt x="342" y="716"/>
                  </a:lnTo>
                  <a:lnTo>
                    <a:pt x="322" y="701"/>
                  </a:lnTo>
                  <a:lnTo>
                    <a:pt x="303" y="685"/>
                  </a:lnTo>
                  <a:lnTo>
                    <a:pt x="284" y="669"/>
                  </a:lnTo>
                  <a:lnTo>
                    <a:pt x="265" y="652"/>
                  </a:lnTo>
                  <a:lnTo>
                    <a:pt x="247" y="635"/>
                  </a:lnTo>
                  <a:lnTo>
                    <a:pt x="230" y="617"/>
                  </a:lnTo>
                  <a:lnTo>
                    <a:pt x="213" y="599"/>
                  </a:lnTo>
                  <a:lnTo>
                    <a:pt x="196" y="580"/>
                  </a:lnTo>
                  <a:lnTo>
                    <a:pt x="188" y="570"/>
                  </a:lnTo>
                  <a:lnTo>
                    <a:pt x="180" y="560"/>
                  </a:lnTo>
                  <a:lnTo>
                    <a:pt x="165" y="541"/>
                  </a:lnTo>
                  <a:lnTo>
                    <a:pt x="150" y="520"/>
                  </a:lnTo>
                  <a:lnTo>
                    <a:pt x="136" y="500"/>
                  </a:lnTo>
                  <a:lnTo>
                    <a:pt x="123" y="478"/>
                  </a:lnTo>
                  <a:lnTo>
                    <a:pt x="110" y="457"/>
                  </a:lnTo>
                  <a:lnTo>
                    <a:pt x="98" y="435"/>
                  </a:lnTo>
                  <a:lnTo>
                    <a:pt x="86" y="412"/>
                  </a:lnTo>
                  <a:lnTo>
                    <a:pt x="75" y="390"/>
                  </a:lnTo>
                  <a:lnTo>
                    <a:pt x="65" y="366"/>
                  </a:lnTo>
                  <a:lnTo>
                    <a:pt x="55" y="343"/>
                  </a:lnTo>
                  <a:lnTo>
                    <a:pt x="46" y="319"/>
                  </a:lnTo>
                  <a:lnTo>
                    <a:pt x="38" y="295"/>
                  </a:lnTo>
                  <a:lnTo>
                    <a:pt x="31" y="270"/>
                  </a:lnTo>
                  <a:lnTo>
                    <a:pt x="24" y="245"/>
                  </a:lnTo>
                  <a:lnTo>
                    <a:pt x="18" y="220"/>
                  </a:lnTo>
                  <a:lnTo>
                    <a:pt x="13" y="195"/>
                  </a:lnTo>
                  <a:lnTo>
                    <a:pt x="9" y="169"/>
                  </a:lnTo>
                  <a:lnTo>
                    <a:pt x="5" y="143"/>
                  </a:lnTo>
                  <a:lnTo>
                    <a:pt x="2" y="117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Freeform 7"/>
            <p:cNvSpPr/>
            <p:nvPr/>
          </p:nvSpPr>
          <p:spPr>
            <a:xfrm>
              <a:off x="6817320" y="2736000"/>
              <a:ext cx="1188360" cy="1064520"/>
            </a:xfrm>
            <a:custGeom>
              <a:avLst/>
              <a:gdLst>
                <a:gd name="textAreaLeft" fmla="*/ 0 w 1188360"/>
                <a:gd name="textAreaRight" fmla="*/ 1188720 w 11883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809" h="757">
                  <a:moveTo>
                    <a:pt x="402" y="0"/>
                  </a:moveTo>
                  <a:lnTo>
                    <a:pt x="424" y="13"/>
                  </a:lnTo>
                  <a:lnTo>
                    <a:pt x="445" y="27"/>
                  </a:lnTo>
                  <a:lnTo>
                    <a:pt x="465" y="41"/>
                  </a:lnTo>
                  <a:lnTo>
                    <a:pt x="485" y="56"/>
                  </a:lnTo>
                  <a:lnTo>
                    <a:pt x="495" y="64"/>
                  </a:lnTo>
                  <a:lnTo>
                    <a:pt x="505" y="72"/>
                  </a:lnTo>
                  <a:lnTo>
                    <a:pt x="524" y="88"/>
                  </a:lnTo>
                  <a:lnTo>
                    <a:pt x="543" y="105"/>
                  </a:lnTo>
                  <a:lnTo>
                    <a:pt x="561" y="122"/>
                  </a:lnTo>
                  <a:lnTo>
                    <a:pt x="578" y="140"/>
                  </a:lnTo>
                  <a:lnTo>
                    <a:pt x="595" y="158"/>
                  </a:lnTo>
                  <a:lnTo>
                    <a:pt x="612" y="177"/>
                  </a:lnTo>
                  <a:lnTo>
                    <a:pt x="628" y="197"/>
                  </a:lnTo>
                  <a:lnTo>
                    <a:pt x="644" y="216"/>
                  </a:lnTo>
                  <a:lnTo>
                    <a:pt x="659" y="237"/>
                  </a:lnTo>
                  <a:lnTo>
                    <a:pt x="673" y="257"/>
                  </a:lnTo>
                  <a:lnTo>
                    <a:pt x="680" y="268"/>
                  </a:lnTo>
                  <a:lnTo>
                    <a:pt x="686" y="279"/>
                  </a:lnTo>
                  <a:lnTo>
                    <a:pt x="699" y="300"/>
                  </a:lnTo>
                  <a:lnTo>
                    <a:pt x="712" y="322"/>
                  </a:lnTo>
                  <a:lnTo>
                    <a:pt x="723" y="345"/>
                  </a:lnTo>
                  <a:lnTo>
                    <a:pt x="734" y="368"/>
                  </a:lnTo>
                  <a:lnTo>
                    <a:pt x="745" y="391"/>
                  </a:lnTo>
                  <a:lnTo>
                    <a:pt x="754" y="414"/>
                  </a:lnTo>
                  <a:lnTo>
                    <a:pt x="763" y="438"/>
                  </a:lnTo>
                  <a:lnTo>
                    <a:pt x="771" y="463"/>
                  </a:lnTo>
                  <a:lnTo>
                    <a:pt x="779" y="487"/>
                  </a:lnTo>
                  <a:lnTo>
                    <a:pt x="785" y="512"/>
                  </a:lnTo>
                  <a:lnTo>
                    <a:pt x="791" y="537"/>
                  </a:lnTo>
                  <a:lnTo>
                    <a:pt x="796" y="563"/>
                  </a:lnTo>
                  <a:lnTo>
                    <a:pt x="801" y="589"/>
                  </a:lnTo>
                  <a:lnTo>
                    <a:pt x="804" y="615"/>
                  </a:lnTo>
                  <a:lnTo>
                    <a:pt x="807" y="641"/>
                  </a:lnTo>
                  <a:lnTo>
                    <a:pt x="809" y="667"/>
                  </a:lnTo>
                  <a:lnTo>
                    <a:pt x="788" y="678"/>
                  </a:lnTo>
                  <a:lnTo>
                    <a:pt x="766" y="688"/>
                  </a:lnTo>
                  <a:lnTo>
                    <a:pt x="744" y="697"/>
                  </a:lnTo>
                  <a:lnTo>
                    <a:pt x="721" y="706"/>
                  </a:lnTo>
                  <a:lnTo>
                    <a:pt x="699" y="714"/>
                  </a:lnTo>
                  <a:lnTo>
                    <a:pt x="676" y="721"/>
                  </a:lnTo>
                  <a:lnTo>
                    <a:pt x="652" y="728"/>
                  </a:lnTo>
                  <a:lnTo>
                    <a:pt x="628" y="734"/>
                  </a:lnTo>
                  <a:lnTo>
                    <a:pt x="604" y="739"/>
                  </a:lnTo>
                  <a:lnTo>
                    <a:pt x="580" y="744"/>
                  </a:lnTo>
                  <a:lnTo>
                    <a:pt x="555" y="748"/>
                  </a:lnTo>
                  <a:lnTo>
                    <a:pt x="531" y="751"/>
                  </a:lnTo>
                  <a:lnTo>
                    <a:pt x="506" y="754"/>
                  </a:lnTo>
                  <a:lnTo>
                    <a:pt x="481" y="756"/>
                  </a:lnTo>
                  <a:lnTo>
                    <a:pt x="456" y="757"/>
                  </a:lnTo>
                  <a:lnTo>
                    <a:pt x="430" y="757"/>
                  </a:lnTo>
                  <a:lnTo>
                    <a:pt x="401" y="757"/>
                  </a:lnTo>
                  <a:lnTo>
                    <a:pt x="372" y="755"/>
                  </a:lnTo>
                  <a:lnTo>
                    <a:pt x="343" y="753"/>
                  </a:lnTo>
                  <a:lnTo>
                    <a:pt x="314" y="749"/>
                  </a:lnTo>
                  <a:lnTo>
                    <a:pt x="300" y="747"/>
                  </a:lnTo>
                  <a:lnTo>
                    <a:pt x="286" y="745"/>
                  </a:lnTo>
                  <a:lnTo>
                    <a:pt x="258" y="740"/>
                  </a:lnTo>
                  <a:lnTo>
                    <a:pt x="230" y="733"/>
                  </a:lnTo>
                  <a:lnTo>
                    <a:pt x="203" y="726"/>
                  </a:lnTo>
                  <a:lnTo>
                    <a:pt x="176" y="718"/>
                  </a:lnTo>
                  <a:lnTo>
                    <a:pt x="163" y="714"/>
                  </a:lnTo>
                  <a:lnTo>
                    <a:pt x="150" y="709"/>
                  </a:lnTo>
                  <a:lnTo>
                    <a:pt x="124" y="700"/>
                  </a:lnTo>
                  <a:lnTo>
                    <a:pt x="98" y="689"/>
                  </a:lnTo>
                  <a:lnTo>
                    <a:pt x="73" y="677"/>
                  </a:lnTo>
                  <a:lnTo>
                    <a:pt x="48" y="665"/>
                  </a:lnTo>
                  <a:lnTo>
                    <a:pt x="24" y="652"/>
                  </a:lnTo>
                  <a:lnTo>
                    <a:pt x="0" y="638"/>
                  </a:lnTo>
                  <a:lnTo>
                    <a:pt x="21" y="626"/>
                  </a:lnTo>
                  <a:lnTo>
                    <a:pt x="41" y="612"/>
                  </a:lnTo>
                  <a:lnTo>
                    <a:pt x="61" y="598"/>
                  </a:lnTo>
                  <a:lnTo>
                    <a:pt x="80" y="584"/>
                  </a:lnTo>
                  <a:lnTo>
                    <a:pt x="99" y="569"/>
                  </a:lnTo>
                  <a:lnTo>
                    <a:pt x="117" y="553"/>
                  </a:lnTo>
                  <a:lnTo>
                    <a:pt x="135" y="537"/>
                  </a:lnTo>
                  <a:lnTo>
                    <a:pt x="153" y="520"/>
                  </a:lnTo>
                  <a:lnTo>
                    <a:pt x="170" y="503"/>
                  </a:lnTo>
                  <a:lnTo>
                    <a:pt x="187" y="486"/>
                  </a:lnTo>
                  <a:lnTo>
                    <a:pt x="203" y="468"/>
                  </a:lnTo>
                  <a:lnTo>
                    <a:pt x="218" y="449"/>
                  </a:lnTo>
                  <a:lnTo>
                    <a:pt x="233" y="430"/>
                  </a:lnTo>
                  <a:lnTo>
                    <a:pt x="248" y="411"/>
                  </a:lnTo>
                  <a:lnTo>
                    <a:pt x="262" y="391"/>
                  </a:lnTo>
                  <a:lnTo>
                    <a:pt x="275" y="371"/>
                  </a:lnTo>
                  <a:lnTo>
                    <a:pt x="288" y="350"/>
                  </a:lnTo>
                  <a:lnTo>
                    <a:pt x="300" y="329"/>
                  </a:lnTo>
                  <a:lnTo>
                    <a:pt x="311" y="308"/>
                  </a:lnTo>
                  <a:lnTo>
                    <a:pt x="322" y="286"/>
                  </a:lnTo>
                  <a:lnTo>
                    <a:pt x="333" y="264"/>
                  </a:lnTo>
                  <a:lnTo>
                    <a:pt x="343" y="241"/>
                  </a:lnTo>
                  <a:lnTo>
                    <a:pt x="352" y="218"/>
                  </a:lnTo>
                  <a:lnTo>
                    <a:pt x="360" y="195"/>
                  </a:lnTo>
                  <a:lnTo>
                    <a:pt x="368" y="172"/>
                  </a:lnTo>
                  <a:lnTo>
                    <a:pt x="375" y="148"/>
                  </a:lnTo>
                  <a:lnTo>
                    <a:pt x="381" y="124"/>
                  </a:lnTo>
                  <a:lnTo>
                    <a:pt x="387" y="99"/>
                  </a:lnTo>
                  <a:lnTo>
                    <a:pt x="392" y="75"/>
                  </a:lnTo>
                  <a:lnTo>
                    <a:pt x="396" y="50"/>
                  </a:lnTo>
                  <a:lnTo>
                    <a:pt x="400" y="25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cad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Freeform 8"/>
            <p:cNvSpPr/>
            <p:nvPr/>
          </p:nvSpPr>
          <p:spPr>
            <a:xfrm>
              <a:off x="5553360" y="2695320"/>
              <a:ext cx="1263600" cy="1105200"/>
            </a:xfrm>
            <a:custGeom>
              <a:avLst/>
              <a:gdLst>
                <a:gd name="textAreaLeft" fmla="*/ 0 w 1263600"/>
                <a:gd name="textAreaRight" fmla="*/ 1263960 w 1263600"/>
                <a:gd name="textAreaTop" fmla="*/ 0 h 1105200"/>
                <a:gd name="textAreaBottom" fmla="*/ 1105560 h 1105200"/>
              </a:gdLst>
              <a:ahLst/>
              <a:rect l="textAreaLeft" t="textAreaTop" r="textAreaRight" b="textAreaBottom"/>
              <a:pathLst>
                <a:path w="860" h="786">
                  <a:moveTo>
                    <a:pt x="0" y="668"/>
                  </a:moveTo>
                  <a:lnTo>
                    <a:pt x="1" y="655"/>
                  </a:lnTo>
                  <a:lnTo>
                    <a:pt x="3" y="641"/>
                  </a:lnTo>
                  <a:lnTo>
                    <a:pt x="6" y="614"/>
                  </a:lnTo>
                  <a:lnTo>
                    <a:pt x="11" y="587"/>
                  </a:lnTo>
                  <a:lnTo>
                    <a:pt x="17" y="561"/>
                  </a:lnTo>
                  <a:lnTo>
                    <a:pt x="23" y="535"/>
                  </a:lnTo>
                  <a:lnTo>
                    <a:pt x="30" y="509"/>
                  </a:lnTo>
                  <a:lnTo>
                    <a:pt x="38" y="483"/>
                  </a:lnTo>
                  <a:lnTo>
                    <a:pt x="47" y="458"/>
                  </a:lnTo>
                  <a:lnTo>
                    <a:pt x="56" y="434"/>
                  </a:lnTo>
                  <a:lnTo>
                    <a:pt x="67" y="409"/>
                  </a:lnTo>
                  <a:lnTo>
                    <a:pt x="78" y="385"/>
                  </a:lnTo>
                  <a:lnTo>
                    <a:pt x="90" y="362"/>
                  </a:lnTo>
                  <a:lnTo>
                    <a:pt x="102" y="339"/>
                  </a:lnTo>
                  <a:lnTo>
                    <a:pt x="115" y="316"/>
                  </a:lnTo>
                  <a:lnTo>
                    <a:pt x="129" y="294"/>
                  </a:lnTo>
                  <a:lnTo>
                    <a:pt x="143" y="272"/>
                  </a:lnTo>
                  <a:lnTo>
                    <a:pt x="159" y="251"/>
                  </a:lnTo>
                  <a:lnTo>
                    <a:pt x="174" y="230"/>
                  </a:lnTo>
                  <a:lnTo>
                    <a:pt x="191" y="210"/>
                  </a:lnTo>
                  <a:lnTo>
                    <a:pt x="208" y="190"/>
                  </a:lnTo>
                  <a:lnTo>
                    <a:pt x="225" y="171"/>
                  </a:lnTo>
                  <a:lnTo>
                    <a:pt x="245" y="153"/>
                  </a:lnTo>
                  <a:lnTo>
                    <a:pt x="263" y="135"/>
                  </a:lnTo>
                  <a:lnTo>
                    <a:pt x="283" y="117"/>
                  </a:lnTo>
                  <a:lnTo>
                    <a:pt x="302" y="100"/>
                  </a:lnTo>
                  <a:lnTo>
                    <a:pt x="323" y="84"/>
                  </a:lnTo>
                  <a:lnTo>
                    <a:pt x="333" y="76"/>
                  </a:lnTo>
                  <a:lnTo>
                    <a:pt x="344" y="69"/>
                  </a:lnTo>
                  <a:lnTo>
                    <a:pt x="365" y="54"/>
                  </a:lnTo>
                  <a:lnTo>
                    <a:pt x="387" y="39"/>
                  </a:lnTo>
                  <a:lnTo>
                    <a:pt x="409" y="26"/>
                  </a:lnTo>
                  <a:lnTo>
                    <a:pt x="432" y="13"/>
                  </a:lnTo>
                  <a:lnTo>
                    <a:pt x="455" y="0"/>
                  </a:lnTo>
                  <a:lnTo>
                    <a:pt x="457" y="27"/>
                  </a:lnTo>
                  <a:lnTo>
                    <a:pt x="460" y="53"/>
                  </a:lnTo>
                  <a:lnTo>
                    <a:pt x="464" y="79"/>
                  </a:lnTo>
                  <a:lnTo>
                    <a:pt x="468" y="105"/>
                  </a:lnTo>
                  <a:lnTo>
                    <a:pt x="473" y="130"/>
                  </a:lnTo>
                  <a:lnTo>
                    <a:pt x="479" y="155"/>
                  </a:lnTo>
                  <a:lnTo>
                    <a:pt x="486" y="180"/>
                  </a:lnTo>
                  <a:lnTo>
                    <a:pt x="489" y="193"/>
                  </a:lnTo>
                  <a:lnTo>
                    <a:pt x="493" y="205"/>
                  </a:lnTo>
                  <a:lnTo>
                    <a:pt x="497" y="217"/>
                  </a:lnTo>
                  <a:lnTo>
                    <a:pt x="501" y="229"/>
                  </a:lnTo>
                  <a:lnTo>
                    <a:pt x="510" y="253"/>
                  </a:lnTo>
                  <a:lnTo>
                    <a:pt x="520" y="276"/>
                  </a:lnTo>
                  <a:lnTo>
                    <a:pt x="530" y="300"/>
                  </a:lnTo>
                  <a:lnTo>
                    <a:pt x="541" y="322"/>
                  </a:lnTo>
                  <a:lnTo>
                    <a:pt x="553" y="345"/>
                  </a:lnTo>
                  <a:lnTo>
                    <a:pt x="565" y="367"/>
                  </a:lnTo>
                  <a:lnTo>
                    <a:pt x="578" y="388"/>
                  </a:lnTo>
                  <a:lnTo>
                    <a:pt x="591" y="410"/>
                  </a:lnTo>
                  <a:lnTo>
                    <a:pt x="605" y="430"/>
                  </a:lnTo>
                  <a:lnTo>
                    <a:pt x="620" y="451"/>
                  </a:lnTo>
                  <a:lnTo>
                    <a:pt x="635" y="470"/>
                  </a:lnTo>
                  <a:lnTo>
                    <a:pt x="651" y="490"/>
                  </a:lnTo>
                  <a:lnTo>
                    <a:pt x="659" y="499"/>
                  </a:lnTo>
                  <a:lnTo>
                    <a:pt x="668" y="509"/>
                  </a:lnTo>
                  <a:lnTo>
                    <a:pt x="685" y="527"/>
                  </a:lnTo>
                  <a:lnTo>
                    <a:pt x="702" y="545"/>
                  </a:lnTo>
                  <a:lnTo>
                    <a:pt x="720" y="562"/>
                  </a:lnTo>
                  <a:lnTo>
                    <a:pt x="739" y="579"/>
                  </a:lnTo>
                  <a:lnTo>
                    <a:pt x="758" y="595"/>
                  </a:lnTo>
                  <a:lnTo>
                    <a:pt x="777" y="611"/>
                  </a:lnTo>
                  <a:lnTo>
                    <a:pt x="797" y="626"/>
                  </a:lnTo>
                  <a:lnTo>
                    <a:pt x="818" y="640"/>
                  </a:lnTo>
                  <a:lnTo>
                    <a:pt x="839" y="654"/>
                  </a:lnTo>
                  <a:lnTo>
                    <a:pt x="860" y="667"/>
                  </a:lnTo>
                  <a:lnTo>
                    <a:pt x="836" y="681"/>
                  </a:lnTo>
                  <a:lnTo>
                    <a:pt x="812" y="694"/>
                  </a:lnTo>
                  <a:lnTo>
                    <a:pt x="787" y="706"/>
                  </a:lnTo>
                  <a:lnTo>
                    <a:pt x="762" y="718"/>
                  </a:lnTo>
                  <a:lnTo>
                    <a:pt x="749" y="723"/>
                  </a:lnTo>
                  <a:lnTo>
                    <a:pt x="736" y="729"/>
                  </a:lnTo>
                  <a:lnTo>
                    <a:pt x="710" y="738"/>
                  </a:lnTo>
                  <a:lnTo>
                    <a:pt x="683" y="747"/>
                  </a:lnTo>
                  <a:lnTo>
                    <a:pt x="657" y="755"/>
                  </a:lnTo>
                  <a:lnTo>
                    <a:pt x="629" y="762"/>
                  </a:lnTo>
                  <a:lnTo>
                    <a:pt x="602" y="769"/>
                  </a:lnTo>
                  <a:lnTo>
                    <a:pt x="588" y="772"/>
                  </a:lnTo>
                  <a:lnTo>
                    <a:pt x="574" y="774"/>
                  </a:lnTo>
                  <a:lnTo>
                    <a:pt x="560" y="776"/>
                  </a:lnTo>
                  <a:lnTo>
                    <a:pt x="545" y="778"/>
                  </a:lnTo>
                  <a:lnTo>
                    <a:pt x="517" y="782"/>
                  </a:lnTo>
                  <a:lnTo>
                    <a:pt x="488" y="784"/>
                  </a:lnTo>
                  <a:lnTo>
                    <a:pt x="459" y="786"/>
                  </a:lnTo>
                  <a:lnTo>
                    <a:pt x="430" y="786"/>
                  </a:lnTo>
                  <a:lnTo>
                    <a:pt x="400" y="786"/>
                  </a:lnTo>
                  <a:lnTo>
                    <a:pt x="386" y="785"/>
                  </a:lnTo>
                  <a:lnTo>
                    <a:pt x="371" y="784"/>
                  </a:lnTo>
                  <a:lnTo>
                    <a:pt x="342" y="782"/>
                  </a:lnTo>
                  <a:lnTo>
                    <a:pt x="314" y="779"/>
                  </a:lnTo>
                  <a:lnTo>
                    <a:pt x="286" y="774"/>
                  </a:lnTo>
                  <a:lnTo>
                    <a:pt x="258" y="769"/>
                  </a:lnTo>
                  <a:lnTo>
                    <a:pt x="230" y="763"/>
                  </a:lnTo>
                  <a:lnTo>
                    <a:pt x="202" y="756"/>
                  </a:lnTo>
                  <a:lnTo>
                    <a:pt x="175" y="747"/>
                  </a:lnTo>
                  <a:lnTo>
                    <a:pt x="149" y="739"/>
                  </a:lnTo>
                  <a:lnTo>
                    <a:pt x="136" y="734"/>
                  </a:lnTo>
                  <a:lnTo>
                    <a:pt x="123" y="729"/>
                  </a:lnTo>
                  <a:lnTo>
                    <a:pt x="97" y="718"/>
                  </a:lnTo>
                  <a:lnTo>
                    <a:pt x="72" y="707"/>
                  </a:lnTo>
                  <a:lnTo>
                    <a:pt x="48" y="695"/>
                  </a:lnTo>
                  <a:lnTo>
                    <a:pt x="23" y="682"/>
                  </a:lnTo>
                  <a:lnTo>
                    <a:pt x="0" y="668"/>
                  </a:lnTo>
                  <a:close/>
                </a:path>
              </a:pathLst>
            </a:custGeom>
            <a:solidFill>
              <a:srgbClr val="1b9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Freeform 9"/>
            <p:cNvSpPr/>
            <p:nvPr/>
          </p:nvSpPr>
          <p:spPr>
            <a:xfrm>
              <a:off x="4953960" y="1447920"/>
              <a:ext cx="1863000" cy="2187000"/>
            </a:xfrm>
            <a:custGeom>
              <a:avLst/>
              <a:gdLst>
                <a:gd name="textAreaLeft" fmla="*/ 0 w 1863000"/>
                <a:gd name="textAreaRight" fmla="*/ 1863360 w 1863000"/>
                <a:gd name="textAreaTop" fmla="*/ 0 h 2187000"/>
                <a:gd name="textAreaBottom" fmla="*/ 2187360 h 2187000"/>
              </a:gdLst>
              <a:ahLst/>
              <a:rect l="textAreaLeft" t="textAreaTop" r="textAreaRight" b="textAreaBottom"/>
              <a:pathLst>
                <a:path w="1268" h="1555">
                  <a:moveTo>
                    <a:pt x="0" y="837"/>
                  </a:moveTo>
                  <a:lnTo>
                    <a:pt x="0" y="815"/>
                  </a:lnTo>
                  <a:lnTo>
                    <a:pt x="1" y="794"/>
                  </a:lnTo>
                  <a:lnTo>
                    <a:pt x="3" y="773"/>
                  </a:lnTo>
                  <a:lnTo>
                    <a:pt x="4" y="752"/>
                  </a:lnTo>
                  <a:lnTo>
                    <a:pt x="7" y="731"/>
                  </a:lnTo>
                  <a:lnTo>
                    <a:pt x="10" y="710"/>
                  </a:lnTo>
                  <a:lnTo>
                    <a:pt x="13" y="689"/>
                  </a:lnTo>
                  <a:lnTo>
                    <a:pt x="17" y="668"/>
                  </a:lnTo>
                  <a:lnTo>
                    <a:pt x="22" y="648"/>
                  </a:lnTo>
                  <a:lnTo>
                    <a:pt x="26" y="628"/>
                  </a:lnTo>
                  <a:lnTo>
                    <a:pt x="38" y="587"/>
                  </a:lnTo>
                  <a:lnTo>
                    <a:pt x="44" y="568"/>
                  </a:lnTo>
                  <a:lnTo>
                    <a:pt x="51" y="548"/>
                  </a:lnTo>
                  <a:lnTo>
                    <a:pt x="58" y="529"/>
                  </a:lnTo>
                  <a:lnTo>
                    <a:pt x="66" y="510"/>
                  </a:lnTo>
                  <a:lnTo>
                    <a:pt x="74" y="492"/>
                  </a:lnTo>
                  <a:lnTo>
                    <a:pt x="83" y="473"/>
                  </a:lnTo>
                  <a:lnTo>
                    <a:pt x="92" y="455"/>
                  </a:lnTo>
                  <a:lnTo>
                    <a:pt x="101" y="437"/>
                  </a:lnTo>
                  <a:lnTo>
                    <a:pt x="111" y="420"/>
                  </a:lnTo>
                  <a:lnTo>
                    <a:pt x="121" y="402"/>
                  </a:lnTo>
                  <a:lnTo>
                    <a:pt x="132" y="385"/>
                  </a:lnTo>
                  <a:lnTo>
                    <a:pt x="143" y="368"/>
                  </a:lnTo>
                  <a:lnTo>
                    <a:pt x="154" y="352"/>
                  </a:lnTo>
                  <a:lnTo>
                    <a:pt x="166" y="336"/>
                  </a:lnTo>
                  <a:lnTo>
                    <a:pt x="179" y="320"/>
                  </a:lnTo>
                  <a:lnTo>
                    <a:pt x="191" y="304"/>
                  </a:lnTo>
                  <a:lnTo>
                    <a:pt x="204" y="289"/>
                  </a:lnTo>
                  <a:lnTo>
                    <a:pt x="217" y="274"/>
                  </a:lnTo>
                  <a:lnTo>
                    <a:pt x="231" y="259"/>
                  </a:lnTo>
                  <a:lnTo>
                    <a:pt x="245" y="245"/>
                  </a:lnTo>
                  <a:lnTo>
                    <a:pt x="259" y="231"/>
                  </a:lnTo>
                  <a:lnTo>
                    <a:pt x="274" y="217"/>
                  </a:lnTo>
                  <a:lnTo>
                    <a:pt x="289" y="204"/>
                  </a:lnTo>
                  <a:lnTo>
                    <a:pt x="305" y="191"/>
                  </a:lnTo>
                  <a:lnTo>
                    <a:pt x="320" y="178"/>
                  </a:lnTo>
                  <a:lnTo>
                    <a:pt x="336" y="166"/>
                  </a:lnTo>
                  <a:lnTo>
                    <a:pt x="352" y="154"/>
                  </a:lnTo>
                  <a:lnTo>
                    <a:pt x="369" y="142"/>
                  </a:lnTo>
                  <a:lnTo>
                    <a:pt x="386" y="131"/>
                  </a:lnTo>
                  <a:lnTo>
                    <a:pt x="403" y="121"/>
                  </a:lnTo>
                  <a:lnTo>
                    <a:pt x="420" y="110"/>
                  </a:lnTo>
                  <a:lnTo>
                    <a:pt x="438" y="101"/>
                  </a:lnTo>
                  <a:lnTo>
                    <a:pt x="456" y="91"/>
                  </a:lnTo>
                  <a:lnTo>
                    <a:pt x="474" y="82"/>
                  </a:lnTo>
                  <a:lnTo>
                    <a:pt x="492" y="74"/>
                  </a:lnTo>
                  <a:lnTo>
                    <a:pt x="511" y="65"/>
                  </a:lnTo>
                  <a:lnTo>
                    <a:pt x="530" y="58"/>
                  </a:lnTo>
                  <a:lnTo>
                    <a:pt x="549" y="50"/>
                  </a:lnTo>
                  <a:lnTo>
                    <a:pt x="568" y="44"/>
                  </a:lnTo>
                  <a:lnTo>
                    <a:pt x="588" y="37"/>
                  </a:lnTo>
                  <a:lnTo>
                    <a:pt x="608" y="31"/>
                  </a:lnTo>
                  <a:lnTo>
                    <a:pt x="628" y="26"/>
                  </a:lnTo>
                  <a:lnTo>
                    <a:pt x="649" y="21"/>
                  </a:lnTo>
                  <a:lnTo>
                    <a:pt x="669" y="17"/>
                  </a:lnTo>
                  <a:lnTo>
                    <a:pt x="689" y="13"/>
                  </a:lnTo>
                  <a:lnTo>
                    <a:pt x="710" y="9"/>
                  </a:lnTo>
                  <a:lnTo>
                    <a:pt x="731" y="6"/>
                  </a:lnTo>
                  <a:lnTo>
                    <a:pt x="752" y="4"/>
                  </a:lnTo>
                  <a:lnTo>
                    <a:pt x="773" y="2"/>
                  </a:lnTo>
                  <a:lnTo>
                    <a:pt x="794" y="1"/>
                  </a:lnTo>
                  <a:lnTo>
                    <a:pt x="816" y="0"/>
                  </a:lnTo>
                  <a:lnTo>
                    <a:pt x="838" y="0"/>
                  </a:lnTo>
                  <a:lnTo>
                    <a:pt x="867" y="0"/>
                  </a:lnTo>
                  <a:lnTo>
                    <a:pt x="896" y="2"/>
                  </a:lnTo>
                  <a:lnTo>
                    <a:pt x="925" y="4"/>
                  </a:lnTo>
                  <a:lnTo>
                    <a:pt x="953" y="8"/>
                  </a:lnTo>
                  <a:lnTo>
                    <a:pt x="968" y="10"/>
                  </a:lnTo>
                  <a:lnTo>
                    <a:pt x="982" y="12"/>
                  </a:lnTo>
                  <a:lnTo>
                    <a:pt x="1010" y="17"/>
                  </a:lnTo>
                  <a:lnTo>
                    <a:pt x="1037" y="24"/>
                  </a:lnTo>
                  <a:lnTo>
                    <a:pt x="1065" y="31"/>
                  </a:lnTo>
                  <a:lnTo>
                    <a:pt x="1091" y="39"/>
                  </a:lnTo>
                  <a:lnTo>
                    <a:pt x="1105" y="43"/>
                  </a:lnTo>
                  <a:lnTo>
                    <a:pt x="1118" y="48"/>
                  </a:lnTo>
                  <a:lnTo>
                    <a:pt x="1144" y="58"/>
                  </a:lnTo>
                  <a:lnTo>
                    <a:pt x="1170" y="68"/>
                  </a:lnTo>
                  <a:lnTo>
                    <a:pt x="1195" y="80"/>
                  </a:lnTo>
                  <a:lnTo>
                    <a:pt x="1220" y="92"/>
                  </a:lnTo>
                  <a:lnTo>
                    <a:pt x="1244" y="105"/>
                  </a:lnTo>
                  <a:lnTo>
                    <a:pt x="1268" y="119"/>
                  </a:lnTo>
                  <a:lnTo>
                    <a:pt x="1245" y="133"/>
                  </a:lnTo>
                  <a:lnTo>
                    <a:pt x="1223" y="147"/>
                  </a:lnTo>
                  <a:lnTo>
                    <a:pt x="1202" y="163"/>
                  </a:lnTo>
                  <a:lnTo>
                    <a:pt x="1191" y="171"/>
                  </a:lnTo>
                  <a:lnTo>
                    <a:pt x="1181" y="179"/>
                  </a:lnTo>
                  <a:lnTo>
                    <a:pt x="1160" y="196"/>
                  </a:lnTo>
                  <a:lnTo>
                    <a:pt x="1140" y="213"/>
                  </a:lnTo>
                  <a:lnTo>
                    <a:pt x="1121" y="231"/>
                  </a:lnTo>
                  <a:lnTo>
                    <a:pt x="1111" y="240"/>
                  </a:lnTo>
                  <a:lnTo>
                    <a:pt x="1102" y="250"/>
                  </a:lnTo>
                  <a:lnTo>
                    <a:pt x="1084" y="269"/>
                  </a:lnTo>
                  <a:lnTo>
                    <a:pt x="1066" y="289"/>
                  </a:lnTo>
                  <a:lnTo>
                    <a:pt x="1049" y="309"/>
                  </a:lnTo>
                  <a:lnTo>
                    <a:pt x="1032" y="330"/>
                  </a:lnTo>
                  <a:lnTo>
                    <a:pt x="1017" y="351"/>
                  </a:lnTo>
                  <a:lnTo>
                    <a:pt x="1002" y="373"/>
                  </a:lnTo>
                  <a:lnTo>
                    <a:pt x="987" y="395"/>
                  </a:lnTo>
                  <a:lnTo>
                    <a:pt x="974" y="418"/>
                  </a:lnTo>
                  <a:lnTo>
                    <a:pt x="961" y="441"/>
                  </a:lnTo>
                  <a:lnTo>
                    <a:pt x="948" y="465"/>
                  </a:lnTo>
                  <a:lnTo>
                    <a:pt x="937" y="489"/>
                  </a:lnTo>
                  <a:lnTo>
                    <a:pt x="926" y="514"/>
                  </a:lnTo>
                  <a:lnTo>
                    <a:pt x="916" y="539"/>
                  </a:lnTo>
                  <a:lnTo>
                    <a:pt x="907" y="564"/>
                  </a:lnTo>
                  <a:lnTo>
                    <a:pt x="899" y="590"/>
                  </a:lnTo>
                  <a:lnTo>
                    <a:pt x="891" y="617"/>
                  </a:lnTo>
                  <a:lnTo>
                    <a:pt x="888" y="630"/>
                  </a:lnTo>
                  <a:lnTo>
                    <a:pt x="884" y="643"/>
                  </a:lnTo>
                  <a:lnTo>
                    <a:pt x="878" y="670"/>
                  </a:lnTo>
                  <a:lnTo>
                    <a:pt x="873" y="697"/>
                  </a:lnTo>
                  <a:lnTo>
                    <a:pt x="869" y="725"/>
                  </a:lnTo>
                  <a:lnTo>
                    <a:pt x="866" y="752"/>
                  </a:lnTo>
                  <a:lnTo>
                    <a:pt x="865" y="766"/>
                  </a:lnTo>
                  <a:lnTo>
                    <a:pt x="864" y="780"/>
                  </a:lnTo>
                  <a:lnTo>
                    <a:pt x="863" y="794"/>
                  </a:lnTo>
                  <a:lnTo>
                    <a:pt x="862" y="809"/>
                  </a:lnTo>
                  <a:lnTo>
                    <a:pt x="862" y="837"/>
                  </a:lnTo>
                  <a:lnTo>
                    <a:pt x="862" y="862"/>
                  </a:lnTo>
                  <a:lnTo>
                    <a:pt x="863" y="887"/>
                  </a:lnTo>
                  <a:lnTo>
                    <a:pt x="840" y="900"/>
                  </a:lnTo>
                  <a:lnTo>
                    <a:pt x="817" y="913"/>
                  </a:lnTo>
                  <a:lnTo>
                    <a:pt x="795" y="926"/>
                  </a:lnTo>
                  <a:lnTo>
                    <a:pt x="773" y="941"/>
                  </a:lnTo>
                  <a:lnTo>
                    <a:pt x="752" y="956"/>
                  </a:lnTo>
                  <a:lnTo>
                    <a:pt x="731" y="971"/>
                  </a:lnTo>
                  <a:lnTo>
                    <a:pt x="721" y="979"/>
                  </a:lnTo>
                  <a:lnTo>
                    <a:pt x="710" y="987"/>
                  </a:lnTo>
                  <a:lnTo>
                    <a:pt x="691" y="1004"/>
                  </a:lnTo>
                  <a:lnTo>
                    <a:pt x="671" y="1022"/>
                  </a:lnTo>
                  <a:lnTo>
                    <a:pt x="653" y="1040"/>
                  </a:lnTo>
                  <a:lnTo>
                    <a:pt x="633" y="1058"/>
                  </a:lnTo>
                  <a:lnTo>
                    <a:pt x="616" y="1077"/>
                  </a:lnTo>
                  <a:lnTo>
                    <a:pt x="599" y="1097"/>
                  </a:lnTo>
                  <a:lnTo>
                    <a:pt x="582" y="1117"/>
                  </a:lnTo>
                  <a:lnTo>
                    <a:pt x="567" y="1138"/>
                  </a:lnTo>
                  <a:lnTo>
                    <a:pt x="551" y="1159"/>
                  </a:lnTo>
                  <a:lnTo>
                    <a:pt x="537" y="1181"/>
                  </a:lnTo>
                  <a:lnTo>
                    <a:pt x="523" y="1203"/>
                  </a:lnTo>
                  <a:lnTo>
                    <a:pt x="510" y="1226"/>
                  </a:lnTo>
                  <a:lnTo>
                    <a:pt x="498" y="1249"/>
                  </a:lnTo>
                  <a:lnTo>
                    <a:pt x="486" y="1272"/>
                  </a:lnTo>
                  <a:lnTo>
                    <a:pt x="475" y="1296"/>
                  </a:lnTo>
                  <a:lnTo>
                    <a:pt x="464" y="1321"/>
                  </a:lnTo>
                  <a:lnTo>
                    <a:pt x="455" y="1345"/>
                  </a:lnTo>
                  <a:lnTo>
                    <a:pt x="446" y="1370"/>
                  </a:lnTo>
                  <a:lnTo>
                    <a:pt x="438" y="1396"/>
                  </a:lnTo>
                  <a:lnTo>
                    <a:pt x="431" y="1422"/>
                  </a:lnTo>
                  <a:lnTo>
                    <a:pt x="428" y="1435"/>
                  </a:lnTo>
                  <a:lnTo>
                    <a:pt x="425" y="1448"/>
                  </a:lnTo>
                  <a:lnTo>
                    <a:pt x="419" y="1474"/>
                  </a:lnTo>
                  <a:lnTo>
                    <a:pt x="414" y="1501"/>
                  </a:lnTo>
                  <a:lnTo>
                    <a:pt x="411" y="1528"/>
                  </a:lnTo>
                  <a:lnTo>
                    <a:pt x="408" y="1555"/>
                  </a:lnTo>
                  <a:lnTo>
                    <a:pt x="385" y="1541"/>
                  </a:lnTo>
                  <a:lnTo>
                    <a:pt x="363" y="1526"/>
                  </a:lnTo>
                  <a:lnTo>
                    <a:pt x="341" y="1511"/>
                  </a:lnTo>
                  <a:lnTo>
                    <a:pt x="320" y="1495"/>
                  </a:lnTo>
                  <a:lnTo>
                    <a:pt x="299" y="1478"/>
                  </a:lnTo>
                  <a:lnTo>
                    <a:pt x="279" y="1461"/>
                  </a:lnTo>
                  <a:lnTo>
                    <a:pt x="260" y="1443"/>
                  </a:lnTo>
                  <a:lnTo>
                    <a:pt x="241" y="1424"/>
                  </a:lnTo>
                  <a:lnTo>
                    <a:pt x="223" y="1405"/>
                  </a:lnTo>
                  <a:lnTo>
                    <a:pt x="205" y="1385"/>
                  </a:lnTo>
                  <a:lnTo>
                    <a:pt x="188" y="1365"/>
                  </a:lnTo>
                  <a:lnTo>
                    <a:pt x="171" y="1344"/>
                  </a:lnTo>
                  <a:lnTo>
                    <a:pt x="156" y="1323"/>
                  </a:lnTo>
                  <a:lnTo>
                    <a:pt x="148" y="1312"/>
                  </a:lnTo>
                  <a:lnTo>
                    <a:pt x="141" y="1301"/>
                  </a:lnTo>
                  <a:lnTo>
                    <a:pt x="126" y="1279"/>
                  </a:lnTo>
                  <a:lnTo>
                    <a:pt x="112" y="1256"/>
                  </a:lnTo>
                  <a:lnTo>
                    <a:pt x="99" y="1232"/>
                  </a:lnTo>
                  <a:lnTo>
                    <a:pt x="87" y="1209"/>
                  </a:lnTo>
                  <a:lnTo>
                    <a:pt x="75" y="1184"/>
                  </a:lnTo>
                  <a:lnTo>
                    <a:pt x="65" y="1160"/>
                  </a:lnTo>
                  <a:lnTo>
                    <a:pt x="55" y="1135"/>
                  </a:lnTo>
                  <a:lnTo>
                    <a:pt x="45" y="1109"/>
                  </a:lnTo>
                  <a:lnTo>
                    <a:pt x="37" y="1084"/>
                  </a:lnTo>
                  <a:lnTo>
                    <a:pt x="29" y="1057"/>
                  </a:lnTo>
                  <a:lnTo>
                    <a:pt x="26" y="1044"/>
                  </a:lnTo>
                  <a:lnTo>
                    <a:pt x="23" y="1031"/>
                  </a:lnTo>
                  <a:lnTo>
                    <a:pt x="17" y="1004"/>
                  </a:lnTo>
                  <a:lnTo>
                    <a:pt x="12" y="977"/>
                  </a:lnTo>
                  <a:lnTo>
                    <a:pt x="8" y="950"/>
                  </a:lnTo>
                  <a:lnTo>
                    <a:pt x="4" y="922"/>
                  </a:lnTo>
                  <a:lnTo>
                    <a:pt x="3" y="908"/>
                  </a:lnTo>
                  <a:lnTo>
                    <a:pt x="2" y="894"/>
                  </a:lnTo>
                  <a:lnTo>
                    <a:pt x="1" y="866"/>
                  </a:lnTo>
                  <a:lnTo>
                    <a:pt x="0" y="837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Freeform 10"/>
            <p:cNvSpPr/>
            <p:nvPr/>
          </p:nvSpPr>
          <p:spPr>
            <a:xfrm>
              <a:off x="6817320" y="1447920"/>
              <a:ext cx="1862640" cy="2226240"/>
            </a:xfrm>
            <a:custGeom>
              <a:avLst/>
              <a:gdLst>
                <a:gd name="textAreaLeft" fmla="*/ 0 w 1862640"/>
                <a:gd name="textAreaRight" fmla="*/ 1863000 w 1862640"/>
                <a:gd name="textAreaTop" fmla="*/ 0 h 2226240"/>
                <a:gd name="textAreaBottom" fmla="*/ 2226600 h 2226240"/>
              </a:gdLst>
              <a:ahLst/>
              <a:rect l="textAreaLeft" t="textAreaTop" r="textAreaRight" b="textAreaBottom"/>
              <a:pathLst>
                <a:path w="1268" h="1583">
                  <a:moveTo>
                    <a:pt x="0" y="119"/>
                  </a:moveTo>
                  <a:lnTo>
                    <a:pt x="24" y="105"/>
                  </a:lnTo>
                  <a:lnTo>
                    <a:pt x="48" y="92"/>
                  </a:lnTo>
                  <a:lnTo>
                    <a:pt x="73" y="80"/>
                  </a:lnTo>
                  <a:lnTo>
                    <a:pt x="98" y="68"/>
                  </a:lnTo>
                  <a:lnTo>
                    <a:pt x="111" y="63"/>
                  </a:lnTo>
                  <a:lnTo>
                    <a:pt x="124" y="58"/>
                  </a:lnTo>
                  <a:lnTo>
                    <a:pt x="150" y="48"/>
                  </a:lnTo>
                  <a:lnTo>
                    <a:pt x="176" y="39"/>
                  </a:lnTo>
                  <a:lnTo>
                    <a:pt x="203" y="31"/>
                  </a:lnTo>
                  <a:lnTo>
                    <a:pt x="230" y="24"/>
                  </a:lnTo>
                  <a:lnTo>
                    <a:pt x="258" y="17"/>
                  </a:lnTo>
                  <a:lnTo>
                    <a:pt x="272" y="15"/>
                  </a:lnTo>
                  <a:lnTo>
                    <a:pt x="286" y="12"/>
                  </a:lnTo>
                  <a:lnTo>
                    <a:pt x="300" y="10"/>
                  </a:lnTo>
                  <a:lnTo>
                    <a:pt x="314" y="8"/>
                  </a:lnTo>
                  <a:lnTo>
                    <a:pt x="343" y="4"/>
                  </a:lnTo>
                  <a:lnTo>
                    <a:pt x="372" y="2"/>
                  </a:lnTo>
                  <a:lnTo>
                    <a:pt x="401" y="0"/>
                  </a:lnTo>
                  <a:lnTo>
                    <a:pt x="430" y="0"/>
                  </a:lnTo>
                  <a:lnTo>
                    <a:pt x="452" y="0"/>
                  </a:lnTo>
                  <a:lnTo>
                    <a:pt x="473" y="1"/>
                  </a:lnTo>
                  <a:lnTo>
                    <a:pt x="495" y="2"/>
                  </a:lnTo>
                  <a:lnTo>
                    <a:pt x="516" y="4"/>
                  </a:lnTo>
                  <a:lnTo>
                    <a:pt x="537" y="6"/>
                  </a:lnTo>
                  <a:lnTo>
                    <a:pt x="558" y="9"/>
                  </a:lnTo>
                  <a:lnTo>
                    <a:pt x="578" y="13"/>
                  </a:lnTo>
                  <a:lnTo>
                    <a:pt x="599" y="17"/>
                  </a:lnTo>
                  <a:lnTo>
                    <a:pt x="619" y="21"/>
                  </a:lnTo>
                  <a:lnTo>
                    <a:pt x="640" y="26"/>
                  </a:lnTo>
                  <a:lnTo>
                    <a:pt x="680" y="37"/>
                  </a:lnTo>
                  <a:lnTo>
                    <a:pt x="699" y="44"/>
                  </a:lnTo>
                  <a:lnTo>
                    <a:pt x="719" y="50"/>
                  </a:lnTo>
                  <a:lnTo>
                    <a:pt x="738" y="58"/>
                  </a:lnTo>
                  <a:lnTo>
                    <a:pt x="757" y="65"/>
                  </a:lnTo>
                  <a:lnTo>
                    <a:pt x="775" y="74"/>
                  </a:lnTo>
                  <a:lnTo>
                    <a:pt x="794" y="82"/>
                  </a:lnTo>
                  <a:lnTo>
                    <a:pt x="812" y="91"/>
                  </a:lnTo>
                  <a:lnTo>
                    <a:pt x="830" y="101"/>
                  </a:lnTo>
                  <a:lnTo>
                    <a:pt x="848" y="110"/>
                  </a:lnTo>
                  <a:lnTo>
                    <a:pt x="865" y="121"/>
                  </a:lnTo>
                  <a:lnTo>
                    <a:pt x="882" y="131"/>
                  </a:lnTo>
                  <a:lnTo>
                    <a:pt x="899" y="142"/>
                  </a:lnTo>
                  <a:lnTo>
                    <a:pt x="915" y="154"/>
                  </a:lnTo>
                  <a:lnTo>
                    <a:pt x="932" y="166"/>
                  </a:lnTo>
                  <a:lnTo>
                    <a:pt x="948" y="178"/>
                  </a:lnTo>
                  <a:lnTo>
                    <a:pt x="963" y="191"/>
                  </a:lnTo>
                  <a:lnTo>
                    <a:pt x="979" y="204"/>
                  </a:lnTo>
                  <a:lnTo>
                    <a:pt x="994" y="217"/>
                  </a:lnTo>
                  <a:lnTo>
                    <a:pt x="1008" y="231"/>
                  </a:lnTo>
                  <a:lnTo>
                    <a:pt x="1023" y="245"/>
                  </a:lnTo>
                  <a:lnTo>
                    <a:pt x="1037" y="259"/>
                  </a:lnTo>
                  <a:lnTo>
                    <a:pt x="1050" y="274"/>
                  </a:lnTo>
                  <a:lnTo>
                    <a:pt x="1064" y="289"/>
                  </a:lnTo>
                  <a:lnTo>
                    <a:pt x="1077" y="304"/>
                  </a:lnTo>
                  <a:lnTo>
                    <a:pt x="1089" y="320"/>
                  </a:lnTo>
                  <a:lnTo>
                    <a:pt x="1101" y="336"/>
                  </a:lnTo>
                  <a:lnTo>
                    <a:pt x="1113" y="352"/>
                  </a:lnTo>
                  <a:lnTo>
                    <a:pt x="1125" y="368"/>
                  </a:lnTo>
                  <a:lnTo>
                    <a:pt x="1136" y="385"/>
                  </a:lnTo>
                  <a:lnTo>
                    <a:pt x="1147" y="402"/>
                  </a:lnTo>
                  <a:lnTo>
                    <a:pt x="1157" y="420"/>
                  </a:lnTo>
                  <a:lnTo>
                    <a:pt x="1167" y="437"/>
                  </a:lnTo>
                  <a:lnTo>
                    <a:pt x="1176" y="455"/>
                  </a:lnTo>
                  <a:lnTo>
                    <a:pt x="1185" y="473"/>
                  </a:lnTo>
                  <a:lnTo>
                    <a:pt x="1194" y="492"/>
                  </a:lnTo>
                  <a:lnTo>
                    <a:pt x="1202" y="510"/>
                  </a:lnTo>
                  <a:lnTo>
                    <a:pt x="1210" y="529"/>
                  </a:lnTo>
                  <a:lnTo>
                    <a:pt x="1217" y="548"/>
                  </a:lnTo>
                  <a:lnTo>
                    <a:pt x="1224" y="568"/>
                  </a:lnTo>
                  <a:lnTo>
                    <a:pt x="1230" y="587"/>
                  </a:lnTo>
                  <a:lnTo>
                    <a:pt x="1236" y="607"/>
                  </a:lnTo>
                  <a:lnTo>
                    <a:pt x="1241" y="628"/>
                  </a:lnTo>
                  <a:lnTo>
                    <a:pt x="1246" y="648"/>
                  </a:lnTo>
                  <a:lnTo>
                    <a:pt x="1251" y="668"/>
                  </a:lnTo>
                  <a:lnTo>
                    <a:pt x="1255" y="689"/>
                  </a:lnTo>
                  <a:lnTo>
                    <a:pt x="1258" y="710"/>
                  </a:lnTo>
                  <a:lnTo>
                    <a:pt x="1261" y="731"/>
                  </a:lnTo>
                  <a:lnTo>
                    <a:pt x="1263" y="752"/>
                  </a:lnTo>
                  <a:lnTo>
                    <a:pt x="1265" y="773"/>
                  </a:lnTo>
                  <a:lnTo>
                    <a:pt x="1267" y="794"/>
                  </a:lnTo>
                  <a:lnTo>
                    <a:pt x="1267" y="815"/>
                  </a:lnTo>
                  <a:lnTo>
                    <a:pt x="1268" y="837"/>
                  </a:lnTo>
                  <a:lnTo>
                    <a:pt x="1267" y="867"/>
                  </a:lnTo>
                  <a:lnTo>
                    <a:pt x="1265" y="898"/>
                  </a:lnTo>
                  <a:lnTo>
                    <a:pt x="1264" y="913"/>
                  </a:lnTo>
                  <a:lnTo>
                    <a:pt x="1263" y="927"/>
                  </a:lnTo>
                  <a:lnTo>
                    <a:pt x="1261" y="942"/>
                  </a:lnTo>
                  <a:lnTo>
                    <a:pt x="1259" y="957"/>
                  </a:lnTo>
                  <a:lnTo>
                    <a:pt x="1254" y="986"/>
                  </a:lnTo>
                  <a:lnTo>
                    <a:pt x="1249" y="1015"/>
                  </a:lnTo>
                  <a:lnTo>
                    <a:pt x="1242" y="1044"/>
                  </a:lnTo>
                  <a:lnTo>
                    <a:pt x="1234" y="1072"/>
                  </a:lnTo>
                  <a:lnTo>
                    <a:pt x="1226" y="1099"/>
                  </a:lnTo>
                  <a:lnTo>
                    <a:pt x="1216" y="1127"/>
                  </a:lnTo>
                  <a:lnTo>
                    <a:pt x="1211" y="1140"/>
                  </a:lnTo>
                  <a:lnTo>
                    <a:pt x="1206" y="1154"/>
                  </a:lnTo>
                  <a:lnTo>
                    <a:pt x="1194" y="1180"/>
                  </a:lnTo>
                  <a:lnTo>
                    <a:pt x="1182" y="1206"/>
                  </a:lnTo>
                  <a:lnTo>
                    <a:pt x="1169" y="1231"/>
                  </a:lnTo>
                  <a:lnTo>
                    <a:pt x="1155" y="1256"/>
                  </a:lnTo>
                  <a:lnTo>
                    <a:pt x="1140" y="1281"/>
                  </a:lnTo>
                  <a:lnTo>
                    <a:pt x="1125" y="1304"/>
                  </a:lnTo>
                  <a:lnTo>
                    <a:pt x="1109" y="1328"/>
                  </a:lnTo>
                  <a:lnTo>
                    <a:pt x="1092" y="1350"/>
                  </a:lnTo>
                  <a:lnTo>
                    <a:pt x="1074" y="1372"/>
                  </a:lnTo>
                  <a:lnTo>
                    <a:pt x="1055" y="1394"/>
                  </a:lnTo>
                  <a:lnTo>
                    <a:pt x="1036" y="1415"/>
                  </a:lnTo>
                  <a:lnTo>
                    <a:pt x="1016" y="1435"/>
                  </a:lnTo>
                  <a:lnTo>
                    <a:pt x="996" y="1454"/>
                  </a:lnTo>
                  <a:lnTo>
                    <a:pt x="985" y="1464"/>
                  </a:lnTo>
                  <a:lnTo>
                    <a:pt x="974" y="1473"/>
                  </a:lnTo>
                  <a:lnTo>
                    <a:pt x="953" y="1491"/>
                  </a:lnTo>
                  <a:lnTo>
                    <a:pt x="941" y="1500"/>
                  </a:lnTo>
                  <a:lnTo>
                    <a:pt x="930" y="1508"/>
                  </a:lnTo>
                  <a:lnTo>
                    <a:pt x="919" y="1517"/>
                  </a:lnTo>
                  <a:lnTo>
                    <a:pt x="907" y="1525"/>
                  </a:lnTo>
                  <a:lnTo>
                    <a:pt x="895" y="1533"/>
                  </a:lnTo>
                  <a:lnTo>
                    <a:pt x="883" y="1541"/>
                  </a:lnTo>
                  <a:lnTo>
                    <a:pt x="871" y="1548"/>
                  </a:lnTo>
                  <a:lnTo>
                    <a:pt x="859" y="1556"/>
                  </a:lnTo>
                  <a:lnTo>
                    <a:pt x="835" y="1570"/>
                  </a:lnTo>
                  <a:lnTo>
                    <a:pt x="809" y="1583"/>
                  </a:lnTo>
                  <a:lnTo>
                    <a:pt x="807" y="1557"/>
                  </a:lnTo>
                  <a:lnTo>
                    <a:pt x="804" y="1531"/>
                  </a:lnTo>
                  <a:lnTo>
                    <a:pt x="801" y="1505"/>
                  </a:lnTo>
                  <a:lnTo>
                    <a:pt x="799" y="1492"/>
                  </a:lnTo>
                  <a:lnTo>
                    <a:pt x="796" y="1479"/>
                  </a:lnTo>
                  <a:lnTo>
                    <a:pt x="791" y="1453"/>
                  </a:lnTo>
                  <a:lnTo>
                    <a:pt x="785" y="1428"/>
                  </a:lnTo>
                  <a:lnTo>
                    <a:pt x="779" y="1403"/>
                  </a:lnTo>
                  <a:lnTo>
                    <a:pt x="775" y="1391"/>
                  </a:lnTo>
                  <a:lnTo>
                    <a:pt x="771" y="1379"/>
                  </a:lnTo>
                  <a:lnTo>
                    <a:pt x="767" y="1366"/>
                  </a:lnTo>
                  <a:lnTo>
                    <a:pt x="763" y="1354"/>
                  </a:lnTo>
                  <a:lnTo>
                    <a:pt x="754" y="1330"/>
                  </a:lnTo>
                  <a:lnTo>
                    <a:pt x="745" y="1307"/>
                  </a:lnTo>
                  <a:lnTo>
                    <a:pt x="734" y="1284"/>
                  </a:lnTo>
                  <a:lnTo>
                    <a:pt x="723" y="1261"/>
                  </a:lnTo>
                  <a:lnTo>
                    <a:pt x="712" y="1238"/>
                  </a:lnTo>
                  <a:lnTo>
                    <a:pt x="699" y="1216"/>
                  </a:lnTo>
                  <a:lnTo>
                    <a:pt x="686" y="1195"/>
                  </a:lnTo>
                  <a:lnTo>
                    <a:pt x="673" y="1173"/>
                  </a:lnTo>
                  <a:lnTo>
                    <a:pt x="666" y="1163"/>
                  </a:lnTo>
                  <a:lnTo>
                    <a:pt x="659" y="1153"/>
                  </a:lnTo>
                  <a:lnTo>
                    <a:pt x="644" y="1132"/>
                  </a:lnTo>
                  <a:lnTo>
                    <a:pt x="628" y="1113"/>
                  </a:lnTo>
                  <a:lnTo>
                    <a:pt x="612" y="1093"/>
                  </a:lnTo>
                  <a:lnTo>
                    <a:pt x="595" y="1074"/>
                  </a:lnTo>
                  <a:lnTo>
                    <a:pt x="578" y="1056"/>
                  </a:lnTo>
                  <a:lnTo>
                    <a:pt x="561" y="1038"/>
                  </a:lnTo>
                  <a:lnTo>
                    <a:pt x="543" y="1021"/>
                  </a:lnTo>
                  <a:lnTo>
                    <a:pt x="524" y="1004"/>
                  </a:lnTo>
                  <a:lnTo>
                    <a:pt x="505" y="988"/>
                  </a:lnTo>
                  <a:lnTo>
                    <a:pt x="485" y="972"/>
                  </a:lnTo>
                  <a:lnTo>
                    <a:pt x="465" y="957"/>
                  </a:lnTo>
                  <a:lnTo>
                    <a:pt x="445" y="943"/>
                  </a:lnTo>
                  <a:lnTo>
                    <a:pt x="424" y="929"/>
                  </a:lnTo>
                  <a:lnTo>
                    <a:pt x="402" y="916"/>
                  </a:lnTo>
                  <a:lnTo>
                    <a:pt x="404" y="896"/>
                  </a:lnTo>
                  <a:lnTo>
                    <a:pt x="405" y="877"/>
                  </a:lnTo>
                  <a:lnTo>
                    <a:pt x="406" y="857"/>
                  </a:lnTo>
                  <a:lnTo>
                    <a:pt x="406" y="837"/>
                  </a:lnTo>
                  <a:lnTo>
                    <a:pt x="405" y="809"/>
                  </a:lnTo>
                  <a:lnTo>
                    <a:pt x="404" y="780"/>
                  </a:lnTo>
                  <a:lnTo>
                    <a:pt x="402" y="752"/>
                  </a:lnTo>
                  <a:lnTo>
                    <a:pt x="398" y="725"/>
                  </a:lnTo>
                  <a:lnTo>
                    <a:pt x="397" y="711"/>
                  </a:lnTo>
                  <a:lnTo>
                    <a:pt x="394" y="697"/>
                  </a:lnTo>
                  <a:lnTo>
                    <a:pt x="389" y="670"/>
                  </a:lnTo>
                  <a:lnTo>
                    <a:pt x="386" y="657"/>
                  </a:lnTo>
                  <a:lnTo>
                    <a:pt x="383" y="643"/>
                  </a:lnTo>
                  <a:lnTo>
                    <a:pt x="377" y="617"/>
                  </a:lnTo>
                  <a:lnTo>
                    <a:pt x="369" y="590"/>
                  </a:lnTo>
                  <a:lnTo>
                    <a:pt x="361" y="564"/>
                  </a:lnTo>
                  <a:lnTo>
                    <a:pt x="352" y="539"/>
                  </a:lnTo>
                  <a:lnTo>
                    <a:pt x="342" y="514"/>
                  </a:lnTo>
                  <a:lnTo>
                    <a:pt x="331" y="489"/>
                  </a:lnTo>
                  <a:lnTo>
                    <a:pt x="319" y="465"/>
                  </a:lnTo>
                  <a:lnTo>
                    <a:pt x="307" y="441"/>
                  </a:lnTo>
                  <a:lnTo>
                    <a:pt x="294" y="418"/>
                  </a:lnTo>
                  <a:lnTo>
                    <a:pt x="280" y="395"/>
                  </a:lnTo>
                  <a:lnTo>
                    <a:pt x="266" y="373"/>
                  </a:lnTo>
                  <a:lnTo>
                    <a:pt x="251" y="351"/>
                  </a:lnTo>
                  <a:lnTo>
                    <a:pt x="235" y="330"/>
                  </a:lnTo>
                  <a:lnTo>
                    <a:pt x="227" y="319"/>
                  </a:lnTo>
                  <a:lnTo>
                    <a:pt x="219" y="309"/>
                  </a:lnTo>
                  <a:lnTo>
                    <a:pt x="202" y="289"/>
                  </a:lnTo>
                  <a:lnTo>
                    <a:pt x="184" y="269"/>
                  </a:lnTo>
                  <a:lnTo>
                    <a:pt x="166" y="250"/>
                  </a:lnTo>
                  <a:lnTo>
                    <a:pt x="147" y="231"/>
                  </a:lnTo>
                  <a:lnTo>
                    <a:pt x="128" y="213"/>
                  </a:lnTo>
                  <a:lnTo>
                    <a:pt x="118" y="204"/>
                  </a:lnTo>
                  <a:lnTo>
                    <a:pt x="108" y="196"/>
                  </a:lnTo>
                  <a:lnTo>
                    <a:pt x="87" y="179"/>
                  </a:lnTo>
                  <a:lnTo>
                    <a:pt x="66" y="163"/>
                  </a:lnTo>
                  <a:lnTo>
                    <a:pt x="45" y="147"/>
                  </a:lnTo>
                  <a:lnTo>
                    <a:pt x="22" y="133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" name="Rectangle 11"/>
            <p:cNvSpPr/>
            <p:nvPr/>
          </p:nvSpPr>
          <p:spPr>
            <a:xfrm>
              <a:off x="8655120" y="1633320"/>
              <a:ext cx="22759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Rectangle 12"/>
            <p:cNvSpPr/>
            <p:nvPr/>
          </p:nvSpPr>
          <p:spPr>
            <a:xfrm>
              <a:off x="3352680" y="1634760"/>
              <a:ext cx="2077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Rectangle 13"/>
            <p:cNvSpPr/>
            <p:nvPr/>
          </p:nvSpPr>
          <p:spPr>
            <a:xfrm>
              <a:off x="7135920" y="4860000"/>
              <a:ext cx="285912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Rectangle 14"/>
            <p:cNvSpPr/>
            <p:nvPr/>
          </p:nvSpPr>
          <p:spPr>
            <a:xfrm>
              <a:off x="5339160" y="2210040"/>
              <a:ext cx="603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Comic Sans MS"/>
                </a:rPr>
                <a:t>MU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" name="Rectangle 15"/>
            <p:cNvSpPr/>
            <p:nvPr/>
          </p:nvSpPr>
          <p:spPr>
            <a:xfrm>
              <a:off x="5778720" y="3239640"/>
              <a:ext cx="766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3.8%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" name="Rectangle 16"/>
            <p:cNvSpPr/>
            <p:nvPr/>
          </p:nvSpPr>
          <p:spPr>
            <a:xfrm>
              <a:off x="7133400" y="3232800"/>
              <a:ext cx="91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11.8%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8" name="Rectangle 17"/>
            <p:cNvSpPr/>
            <p:nvPr/>
          </p:nvSpPr>
          <p:spPr>
            <a:xfrm>
              <a:off x="7539480" y="2222640"/>
              <a:ext cx="521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Comic Sans MS"/>
                </a:rPr>
                <a:t>KB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9" name="Rectangle 18"/>
            <p:cNvSpPr/>
            <p:nvPr/>
          </p:nvSpPr>
          <p:spPr>
            <a:xfrm>
              <a:off x="6509520" y="2838600"/>
              <a:ext cx="77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3.3%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0" name="Rectangle 19"/>
            <p:cNvSpPr/>
            <p:nvPr/>
          </p:nvSpPr>
          <p:spPr>
            <a:xfrm>
              <a:off x="6485760" y="1976760"/>
              <a:ext cx="77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7.4%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1" name="Freeform 20"/>
            <p:cNvSpPr/>
            <p:nvPr/>
          </p:nvSpPr>
          <p:spPr>
            <a:xfrm>
              <a:off x="5547600" y="3633480"/>
              <a:ext cx="2460960" cy="1289880"/>
            </a:xfrm>
            <a:custGeom>
              <a:avLst/>
              <a:gdLst>
                <a:gd name="textAreaLeft" fmla="*/ 0 w 2460960"/>
                <a:gd name="textAreaRight" fmla="*/ 2461320 w 2460960"/>
                <a:gd name="textAreaTop" fmla="*/ 0 h 1289880"/>
                <a:gd name="textAreaBottom" fmla="*/ 1290240 h 1289880"/>
              </a:gdLst>
              <a:ahLst/>
              <a:rect l="textAreaLeft" t="textAreaTop" r="textAreaRight" b="textAreaBottom"/>
              <a:pathLst>
                <a:path w="1675" h="917">
                  <a:moveTo>
                    <a:pt x="0" y="80"/>
                  </a:moveTo>
                  <a:lnTo>
                    <a:pt x="0" y="60"/>
                  </a:lnTo>
                  <a:lnTo>
                    <a:pt x="1" y="40"/>
                  </a:lnTo>
                  <a:lnTo>
                    <a:pt x="2" y="21"/>
                  </a:lnTo>
                  <a:lnTo>
                    <a:pt x="4" y="1"/>
                  </a:lnTo>
                  <a:lnTo>
                    <a:pt x="27" y="15"/>
                  </a:lnTo>
                  <a:lnTo>
                    <a:pt x="52" y="28"/>
                  </a:lnTo>
                  <a:lnTo>
                    <a:pt x="76" y="40"/>
                  </a:lnTo>
                  <a:lnTo>
                    <a:pt x="89" y="46"/>
                  </a:lnTo>
                  <a:lnTo>
                    <a:pt x="101" y="51"/>
                  </a:lnTo>
                  <a:lnTo>
                    <a:pt x="127" y="62"/>
                  </a:lnTo>
                  <a:lnTo>
                    <a:pt x="140" y="67"/>
                  </a:lnTo>
                  <a:lnTo>
                    <a:pt x="153" y="72"/>
                  </a:lnTo>
                  <a:lnTo>
                    <a:pt x="179" y="80"/>
                  </a:lnTo>
                  <a:lnTo>
                    <a:pt x="206" y="89"/>
                  </a:lnTo>
                  <a:lnTo>
                    <a:pt x="220" y="92"/>
                  </a:lnTo>
                  <a:lnTo>
                    <a:pt x="234" y="96"/>
                  </a:lnTo>
                  <a:lnTo>
                    <a:pt x="262" y="102"/>
                  </a:lnTo>
                  <a:lnTo>
                    <a:pt x="290" y="107"/>
                  </a:lnTo>
                  <a:lnTo>
                    <a:pt x="318" y="112"/>
                  </a:lnTo>
                  <a:lnTo>
                    <a:pt x="346" y="115"/>
                  </a:lnTo>
                  <a:lnTo>
                    <a:pt x="375" y="117"/>
                  </a:lnTo>
                  <a:lnTo>
                    <a:pt x="404" y="119"/>
                  </a:lnTo>
                  <a:lnTo>
                    <a:pt x="434" y="119"/>
                  </a:lnTo>
                  <a:lnTo>
                    <a:pt x="463" y="119"/>
                  </a:lnTo>
                  <a:lnTo>
                    <a:pt x="492" y="117"/>
                  </a:lnTo>
                  <a:lnTo>
                    <a:pt x="521" y="115"/>
                  </a:lnTo>
                  <a:lnTo>
                    <a:pt x="549" y="111"/>
                  </a:lnTo>
                  <a:lnTo>
                    <a:pt x="564" y="109"/>
                  </a:lnTo>
                  <a:lnTo>
                    <a:pt x="578" y="107"/>
                  </a:lnTo>
                  <a:lnTo>
                    <a:pt x="606" y="102"/>
                  </a:lnTo>
                  <a:lnTo>
                    <a:pt x="633" y="95"/>
                  </a:lnTo>
                  <a:lnTo>
                    <a:pt x="661" y="88"/>
                  </a:lnTo>
                  <a:lnTo>
                    <a:pt x="687" y="80"/>
                  </a:lnTo>
                  <a:lnTo>
                    <a:pt x="701" y="76"/>
                  </a:lnTo>
                  <a:lnTo>
                    <a:pt x="714" y="71"/>
                  </a:lnTo>
                  <a:lnTo>
                    <a:pt x="740" y="62"/>
                  </a:lnTo>
                  <a:lnTo>
                    <a:pt x="766" y="51"/>
                  </a:lnTo>
                  <a:lnTo>
                    <a:pt x="791" y="39"/>
                  </a:lnTo>
                  <a:lnTo>
                    <a:pt x="816" y="27"/>
                  </a:lnTo>
                  <a:lnTo>
                    <a:pt x="840" y="14"/>
                  </a:lnTo>
                  <a:lnTo>
                    <a:pt x="864" y="0"/>
                  </a:lnTo>
                  <a:lnTo>
                    <a:pt x="888" y="14"/>
                  </a:lnTo>
                  <a:lnTo>
                    <a:pt x="912" y="27"/>
                  </a:lnTo>
                  <a:lnTo>
                    <a:pt x="937" y="39"/>
                  </a:lnTo>
                  <a:lnTo>
                    <a:pt x="962" y="51"/>
                  </a:lnTo>
                  <a:lnTo>
                    <a:pt x="975" y="56"/>
                  </a:lnTo>
                  <a:lnTo>
                    <a:pt x="988" y="62"/>
                  </a:lnTo>
                  <a:lnTo>
                    <a:pt x="1014" y="71"/>
                  </a:lnTo>
                  <a:lnTo>
                    <a:pt x="1040" y="80"/>
                  </a:lnTo>
                  <a:lnTo>
                    <a:pt x="1067" y="88"/>
                  </a:lnTo>
                  <a:lnTo>
                    <a:pt x="1094" y="95"/>
                  </a:lnTo>
                  <a:lnTo>
                    <a:pt x="1122" y="102"/>
                  </a:lnTo>
                  <a:lnTo>
                    <a:pt x="1136" y="105"/>
                  </a:lnTo>
                  <a:lnTo>
                    <a:pt x="1150" y="107"/>
                  </a:lnTo>
                  <a:lnTo>
                    <a:pt x="1164" y="109"/>
                  </a:lnTo>
                  <a:lnTo>
                    <a:pt x="1178" y="111"/>
                  </a:lnTo>
                  <a:lnTo>
                    <a:pt x="1207" y="115"/>
                  </a:lnTo>
                  <a:lnTo>
                    <a:pt x="1236" y="117"/>
                  </a:lnTo>
                  <a:lnTo>
                    <a:pt x="1265" y="119"/>
                  </a:lnTo>
                  <a:lnTo>
                    <a:pt x="1294" y="119"/>
                  </a:lnTo>
                  <a:lnTo>
                    <a:pt x="1320" y="119"/>
                  </a:lnTo>
                  <a:lnTo>
                    <a:pt x="1345" y="118"/>
                  </a:lnTo>
                  <a:lnTo>
                    <a:pt x="1370" y="116"/>
                  </a:lnTo>
                  <a:lnTo>
                    <a:pt x="1395" y="113"/>
                  </a:lnTo>
                  <a:lnTo>
                    <a:pt x="1419" y="110"/>
                  </a:lnTo>
                  <a:lnTo>
                    <a:pt x="1444" y="106"/>
                  </a:lnTo>
                  <a:lnTo>
                    <a:pt x="1468" y="101"/>
                  </a:lnTo>
                  <a:lnTo>
                    <a:pt x="1492" y="96"/>
                  </a:lnTo>
                  <a:lnTo>
                    <a:pt x="1516" y="90"/>
                  </a:lnTo>
                  <a:lnTo>
                    <a:pt x="1540" y="83"/>
                  </a:lnTo>
                  <a:lnTo>
                    <a:pt x="1551" y="80"/>
                  </a:lnTo>
                  <a:lnTo>
                    <a:pt x="1563" y="76"/>
                  </a:lnTo>
                  <a:lnTo>
                    <a:pt x="1585" y="68"/>
                  </a:lnTo>
                  <a:lnTo>
                    <a:pt x="1608" y="59"/>
                  </a:lnTo>
                  <a:lnTo>
                    <a:pt x="1630" y="50"/>
                  </a:lnTo>
                  <a:lnTo>
                    <a:pt x="1652" y="40"/>
                  </a:lnTo>
                  <a:lnTo>
                    <a:pt x="1673" y="29"/>
                  </a:lnTo>
                  <a:lnTo>
                    <a:pt x="1674" y="54"/>
                  </a:lnTo>
                  <a:lnTo>
                    <a:pt x="1675" y="80"/>
                  </a:lnTo>
                  <a:lnTo>
                    <a:pt x="1675" y="101"/>
                  </a:lnTo>
                  <a:lnTo>
                    <a:pt x="1674" y="123"/>
                  </a:lnTo>
                  <a:lnTo>
                    <a:pt x="1672" y="144"/>
                  </a:lnTo>
                  <a:lnTo>
                    <a:pt x="1670" y="165"/>
                  </a:lnTo>
                  <a:lnTo>
                    <a:pt x="1668" y="186"/>
                  </a:lnTo>
                  <a:lnTo>
                    <a:pt x="1665" y="207"/>
                  </a:lnTo>
                  <a:lnTo>
                    <a:pt x="1662" y="228"/>
                  </a:lnTo>
                  <a:lnTo>
                    <a:pt x="1658" y="248"/>
                  </a:lnTo>
                  <a:lnTo>
                    <a:pt x="1653" y="269"/>
                  </a:lnTo>
                  <a:lnTo>
                    <a:pt x="1648" y="289"/>
                  </a:lnTo>
                  <a:lnTo>
                    <a:pt x="1637" y="329"/>
                  </a:lnTo>
                  <a:lnTo>
                    <a:pt x="1631" y="349"/>
                  </a:lnTo>
                  <a:lnTo>
                    <a:pt x="1624" y="368"/>
                  </a:lnTo>
                  <a:lnTo>
                    <a:pt x="1617" y="387"/>
                  </a:lnTo>
                  <a:lnTo>
                    <a:pt x="1609" y="406"/>
                  </a:lnTo>
                  <a:lnTo>
                    <a:pt x="1601" y="425"/>
                  </a:lnTo>
                  <a:lnTo>
                    <a:pt x="1592" y="443"/>
                  </a:lnTo>
                  <a:lnTo>
                    <a:pt x="1583" y="461"/>
                  </a:lnTo>
                  <a:lnTo>
                    <a:pt x="1574" y="479"/>
                  </a:lnTo>
                  <a:lnTo>
                    <a:pt x="1564" y="497"/>
                  </a:lnTo>
                  <a:lnTo>
                    <a:pt x="1554" y="514"/>
                  </a:lnTo>
                  <a:lnTo>
                    <a:pt x="1543" y="532"/>
                  </a:lnTo>
                  <a:lnTo>
                    <a:pt x="1532" y="548"/>
                  </a:lnTo>
                  <a:lnTo>
                    <a:pt x="1520" y="565"/>
                  </a:lnTo>
                  <a:lnTo>
                    <a:pt x="1509" y="581"/>
                  </a:lnTo>
                  <a:lnTo>
                    <a:pt x="1495" y="597"/>
                  </a:lnTo>
                  <a:lnTo>
                    <a:pt x="1483" y="613"/>
                  </a:lnTo>
                  <a:lnTo>
                    <a:pt x="1470" y="628"/>
                  </a:lnTo>
                  <a:lnTo>
                    <a:pt x="1457" y="643"/>
                  </a:lnTo>
                  <a:lnTo>
                    <a:pt x="1443" y="658"/>
                  </a:lnTo>
                  <a:lnTo>
                    <a:pt x="1429" y="672"/>
                  </a:lnTo>
                  <a:lnTo>
                    <a:pt x="1414" y="686"/>
                  </a:lnTo>
                  <a:lnTo>
                    <a:pt x="1400" y="700"/>
                  </a:lnTo>
                  <a:lnTo>
                    <a:pt x="1385" y="713"/>
                  </a:lnTo>
                  <a:lnTo>
                    <a:pt x="1369" y="726"/>
                  </a:lnTo>
                  <a:lnTo>
                    <a:pt x="1354" y="739"/>
                  </a:lnTo>
                  <a:lnTo>
                    <a:pt x="1338" y="751"/>
                  </a:lnTo>
                  <a:lnTo>
                    <a:pt x="1322" y="763"/>
                  </a:lnTo>
                  <a:lnTo>
                    <a:pt x="1305" y="774"/>
                  </a:lnTo>
                  <a:lnTo>
                    <a:pt x="1288" y="785"/>
                  </a:lnTo>
                  <a:lnTo>
                    <a:pt x="1271" y="796"/>
                  </a:lnTo>
                  <a:lnTo>
                    <a:pt x="1254" y="806"/>
                  </a:lnTo>
                  <a:lnTo>
                    <a:pt x="1236" y="816"/>
                  </a:lnTo>
                  <a:lnTo>
                    <a:pt x="1218" y="826"/>
                  </a:lnTo>
                  <a:lnTo>
                    <a:pt x="1200" y="835"/>
                  </a:lnTo>
                  <a:lnTo>
                    <a:pt x="1182" y="843"/>
                  </a:lnTo>
                  <a:lnTo>
                    <a:pt x="1163" y="851"/>
                  </a:lnTo>
                  <a:lnTo>
                    <a:pt x="1144" y="859"/>
                  </a:lnTo>
                  <a:lnTo>
                    <a:pt x="1125" y="866"/>
                  </a:lnTo>
                  <a:lnTo>
                    <a:pt x="1106" y="873"/>
                  </a:lnTo>
                  <a:lnTo>
                    <a:pt x="1086" y="880"/>
                  </a:lnTo>
                  <a:lnTo>
                    <a:pt x="1066" y="885"/>
                  </a:lnTo>
                  <a:lnTo>
                    <a:pt x="1046" y="891"/>
                  </a:lnTo>
                  <a:lnTo>
                    <a:pt x="1026" y="896"/>
                  </a:lnTo>
                  <a:lnTo>
                    <a:pt x="1006" y="900"/>
                  </a:lnTo>
                  <a:lnTo>
                    <a:pt x="985" y="904"/>
                  </a:lnTo>
                  <a:lnTo>
                    <a:pt x="965" y="907"/>
                  </a:lnTo>
                  <a:lnTo>
                    <a:pt x="944" y="910"/>
                  </a:lnTo>
                  <a:lnTo>
                    <a:pt x="923" y="913"/>
                  </a:lnTo>
                  <a:lnTo>
                    <a:pt x="902" y="915"/>
                  </a:lnTo>
                  <a:lnTo>
                    <a:pt x="880" y="916"/>
                  </a:lnTo>
                  <a:lnTo>
                    <a:pt x="859" y="917"/>
                  </a:lnTo>
                  <a:lnTo>
                    <a:pt x="837" y="917"/>
                  </a:lnTo>
                  <a:lnTo>
                    <a:pt x="816" y="917"/>
                  </a:lnTo>
                  <a:lnTo>
                    <a:pt x="794" y="916"/>
                  </a:lnTo>
                  <a:lnTo>
                    <a:pt x="773" y="915"/>
                  </a:lnTo>
                  <a:lnTo>
                    <a:pt x="752" y="913"/>
                  </a:lnTo>
                  <a:lnTo>
                    <a:pt x="731" y="910"/>
                  </a:lnTo>
                  <a:lnTo>
                    <a:pt x="710" y="907"/>
                  </a:lnTo>
                  <a:lnTo>
                    <a:pt x="689" y="904"/>
                  </a:lnTo>
                  <a:lnTo>
                    <a:pt x="669" y="900"/>
                  </a:lnTo>
                  <a:lnTo>
                    <a:pt x="648" y="896"/>
                  </a:lnTo>
                  <a:lnTo>
                    <a:pt x="628" y="891"/>
                  </a:lnTo>
                  <a:lnTo>
                    <a:pt x="589" y="880"/>
                  </a:lnTo>
                  <a:lnTo>
                    <a:pt x="569" y="873"/>
                  </a:lnTo>
                  <a:lnTo>
                    <a:pt x="550" y="866"/>
                  </a:lnTo>
                  <a:lnTo>
                    <a:pt x="531" y="859"/>
                  </a:lnTo>
                  <a:lnTo>
                    <a:pt x="512" y="851"/>
                  </a:lnTo>
                  <a:lnTo>
                    <a:pt x="493" y="843"/>
                  </a:lnTo>
                  <a:lnTo>
                    <a:pt x="475" y="835"/>
                  </a:lnTo>
                  <a:lnTo>
                    <a:pt x="457" y="826"/>
                  </a:lnTo>
                  <a:lnTo>
                    <a:pt x="439" y="816"/>
                  </a:lnTo>
                  <a:lnTo>
                    <a:pt x="421" y="806"/>
                  </a:lnTo>
                  <a:lnTo>
                    <a:pt x="404" y="796"/>
                  </a:lnTo>
                  <a:lnTo>
                    <a:pt x="387" y="785"/>
                  </a:lnTo>
                  <a:lnTo>
                    <a:pt x="370" y="774"/>
                  </a:lnTo>
                  <a:lnTo>
                    <a:pt x="353" y="763"/>
                  </a:lnTo>
                  <a:lnTo>
                    <a:pt x="337" y="751"/>
                  </a:lnTo>
                  <a:lnTo>
                    <a:pt x="321" y="739"/>
                  </a:lnTo>
                  <a:lnTo>
                    <a:pt x="305" y="726"/>
                  </a:lnTo>
                  <a:lnTo>
                    <a:pt x="290" y="713"/>
                  </a:lnTo>
                  <a:lnTo>
                    <a:pt x="275" y="700"/>
                  </a:lnTo>
                  <a:lnTo>
                    <a:pt x="260" y="686"/>
                  </a:lnTo>
                  <a:lnTo>
                    <a:pt x="246" y="672"/>
                  </a:lnTo>
                  <a:lnTo>
                    <a:pt x="232" y="658"/>
                  </a:lnTo>
                  <a:lnTo>
                    <a:pt x="217" y="643"/>
                  </a:lnTo>
                  <a:lnTo>
                    <a:pt x="204" y="628"/>
                  </a:lnTo>
                  <a:lnTo>
                    <a:pt x="191" y="613"/>
                  </a:lnTo>
                  <a:lnTo>
                    <a:pt x="178" y="597"/>
                  </a:lnTo>
                  <a:lnTo>
                    <a:pt x="166" y="581"/>
                  </a:lnTo>
                  <a:lnTo>
                    <a:pt x="154" y="565"/>
                  </a:lnTo>
                  <a:lnTo>
                    <a:pt x="143" y="548"/>
                  </a:lnTo>
                  <a:lnTo>
                    <a:pt x="132" y="532"/>
                  </a:lnTo>
                  <a:lnTo>
                    <a:pt x="121" y="514"/>
                  </a:lnTo>
                  <a:lnTo>
                    <a:pt x="111" y="497"/>
                  </a:lnTo>
                  <a:lnTo>
                    <a:pt x="101" y="479"/>
                  </a:lnTo>
                  <a:lnTo>
                    <a:pt x="91" y="461"/>
                  </a:lnTo>
                  <a:lnTo>
                    <a:pt x="82" y="443"/>
                  </a:lnTo>
                  <a:lnTo>
                    <a:pt x="74" y="425"/>
                  </a:lnTo>
                  <a:lnTo>
                    <a:pt x="66" y="406"/>
                  </a:lnTo>
                  <a:lnTo>
                    <a:pt x="58" y="387"/>
                  </a:lnTo>
                  <a:lnTo>
                    <a:pt x="51" y="368"/>
                  </a:lnTo>
                  <a:lnTo>
                    <a:pt x="44" y="349"/>
                  </a:lnTo>
                  <a:lnTo>
                    <a:pt x="38" y="329"/>
                  </a:lnTo>
                  <a:lnTo>
                    <a:pt x="32" y="310"/>
                  </a:lnTo>
                  <a:lnTo>
                    <a:pt x="26" y="289"/>
                  </a:lnTo>
                  <a:lnTo>
                    <a:pt x="21" y="269"/>
                  </a:lnTo>
                  <a:lnTo>
                    <a:pt x="17" y="248"/>
                  </a:lnTo>
                  <a:lnTo>
                    <a:pt x="13" y="228"/>
                  </a:lnTo>
                  <a:lnTo>
                    <a:pt x="10" y="207"/>
                  </a:lnTo>
                  <a:lnTo>
                    <a:pt x="7" y="186"/>
                  </a:lnTo>
                  <a:lnTo>
                    <a:pt x="4" y="165"/>
                  </a:lnTo>
                  <a:lnTo>
                    <a:pt x="2" y="144"/>
                  </a:lnTo>
                  <a:lnTo>
                    <a:pt x="1" y="123"/>
                  </a:lnTo>
                  <a:lnTo>
                    <a:pt x="0" y="101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" name="Rectangle 21"/>
            <p:cNvSpPr/>
            <p:nvPr/>
          </p:nvSpPr>
          <p:spPr>
            <a:xfrm>
              <a:off x="6372360" y="4019040"/>
              <a:ext cx="66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Comic Sans MS"/>
                </a:rPr>
                <a:t>PVB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Дијагноз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И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845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тврди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ктуел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томатолог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стал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б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ипични симпто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- слабост руке и ноге (хемипареза или хемиплегиј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- отежан говор (ако је доминантна хемисфер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- централни фацијалис (нижи угао уса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- централни хипоглосус (девијација језика у стран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хемиплегије)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станови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стал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вентуал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кут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ролошк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оматск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мплик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Дијагноз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И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074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Хит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абораторијск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гле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р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КС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отромбинск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рем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Р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Пт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икем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ре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еатини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иглицерид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олестер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лектроли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К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Дијагноз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И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ле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пунс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аборатор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муносеролог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ролошк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сто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фил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Р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иказив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схемичн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ар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иказив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аркт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ждано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табл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омбоз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енск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нус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гиограф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лтразвуч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јагнос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плер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Б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валите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ла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анскранијал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плер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хокардиограф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ансторакал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ансезофагеал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ерапиј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схемичног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br>
              <a:rPr sz="4400"/>
            </a:b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ожданог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уда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2852280"/>
            <a:ext cx="80074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ече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спољен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6720" indent="-126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вентив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6720" indent="-126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омбектомија (унутар 6-24 сат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6720" indent="-126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ибринолитичка терапија (унутар 4.5 са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6720" indent="-126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тиагрегациона терап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6720" indent="-126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пија фактора риз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6720" indent="-126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изикална терап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Хеморагични мождани уда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убарахноидална хемораг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- И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злив крви у субарахноидални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прос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нтрацеребрална хеморагиј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- излив крви у мождани паренх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убарахноидалн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хеморагиј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88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убарахноидалн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хеморагија</a:t>
            </a:r>
            <a:br>
              <a:rPr sz="4400"/>
            </a:b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Узроц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360" y="1714680"/>
            <a:ext cx="884556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80% руптура анеуриз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20%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- АВ малформације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- коагулопат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- дилатиране вене или венске малформ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- окултне или микотичне анеуриз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- тумори моз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- васкулитис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- инфекције ЦН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- пробој крвављења из можданог паренхима  у субарахноидни прос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Aneurizma (15% multipl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483920"/>
            <a:ext cx="80074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ACA 35-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prednja komunikantna arter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perikalozna arter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ACI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zadnja komunikantna arter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bifurkacija karot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prednja horioidna arter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oftalmička arter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ACM 20-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bifurkacija, trifurka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Zadnji sliv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bazilarna arter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zadnja donja cerebelarna arterij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Епидемиологиј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845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2-5%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вих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кутних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нциденц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раст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тарење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највећ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6.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децениј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1.6 x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виш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ж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мртност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5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10%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нег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шт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тигн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лека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25%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в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24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велик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број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в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2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недељ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ловин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еживелих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м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гнитивн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ремећа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Фактор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ризик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з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8930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ушењ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цигар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ртеријск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ипертенз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ришћењ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ка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Злоупотреб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лкохо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зитивн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родичн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намнез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Наследн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везивног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ткив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лицистичн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бубрез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Ехлер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Данлосов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индр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арфанов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индр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фибромускуларн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дисплазиј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)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аћен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јав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неуриз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Comic Sans MS"/>
              </a:rPr>
              <a:t>Krvni sudovi mozga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arotidne arter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Prednje cirkula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tebralne arter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Zadnja cirkula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llisov k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4842000" y="333360"/>
            <a:ext cx="3676680" cy="58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Клиничк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лик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905120"/>
            <a:ext cx="89647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Главобољ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–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ључ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то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85-100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гл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ксплозив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а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икад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40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еди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Поремећај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тањ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вест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– 45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м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нфуз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т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енингеалн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зна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Фокалн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неуролошк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знац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10-15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следиц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мпрес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еуриз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ширењ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ављењ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ренхи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з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тварањ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елик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убарахноидалн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груш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Дијагноз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357200"/>
            <a:ext cx="9429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Главобољ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Очн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дн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ретиналн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емораг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итн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ЦТ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гла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90-95%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рв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убарахноидалн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осто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10-15%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ЦТ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редан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в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24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ЛП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–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ож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бит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редан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вих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6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а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дијагностичк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игуран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налаз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сл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9-12 </a:t>
            </a:r>
            <a:r>
              <a:rPr b="0" lang="sr-RS" sz="2800" spc="-1" strike="noStrike">
                <a:solidFill>
                  <a:srgbClr val="ffffff"/>
                </a:solidFill>
                <a:latin typeface="Comic Sans MS"/>
              </a:rPr>
              <a:t>са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нгиографиј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дигиталн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убтракцио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ЦТ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нгиографи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Р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нгиограф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Неуролошк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компликациј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томатск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азоспаз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змеђ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4.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12.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опорционала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личин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убарахноидно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ост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друже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схемијо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чес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ро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мр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дроцефал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20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следиц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е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псорпц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кв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новље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авље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н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аз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7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пилептич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п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к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1/3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ка, мог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уд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зро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новн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авље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оматск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компликациј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8920" y="2491920"/>
            <a:ext cx="86662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лућн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ед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рчан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ритм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ремећај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електролит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ипонатријемиј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рвављењ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з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гастроинтестиналног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тра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Лечењ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т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име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пшт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пијск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безбеђе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италн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унк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држав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ртеријск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итис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раницам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орма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ригов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гликем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ригов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терм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етма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д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ече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зро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еуризм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руршк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јбољ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в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72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ласир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икробало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ртикул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крећ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омбоз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блитерациј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еуризм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траартеријски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атете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пречав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ече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мплик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азоспаза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дукова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х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пертенз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х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перволем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х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первентил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</a:t>
            </a: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нтрацеребрална хеморагиј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5" descr="Bauerfeind Srbija » Moždani udar"/>
          <p:cNvPicPr/>
          <p:nvPr/>
        </p:nvPicPr>
        <p:blipFill>
          <a:blip r:embed="rId1"/>
          <a:stretch/>
        </p:blipFill>
        <p:spPr>
          <a:xfrm>
            <a:off x="1201680" y="1736640"/>
            <a:ext cx="674064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нтрацеребралн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хеморагиј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8845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тензив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- 50-6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тензив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ртериопат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хипертензив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-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церебрал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милоид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гиопат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-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аскулар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лформац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руг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ртериопат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омбо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енск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нус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секц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ртер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авље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ум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еукем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омбоцитопен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агулопат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еко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тикоагулант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ибринолитич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лоупотреб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лкох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Епидемиологиј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Ц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904760"/>
            <a:ext cx="8964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10-15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ел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30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жут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исо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рталите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њ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г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н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30-60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в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сец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20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ункционал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завис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Фактор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ризик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2492280"/>
            <a:ext cx="85215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ронич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тенз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таре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лоупотреб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лкох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тикоагулант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зим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атикомимети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р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¼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Ц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ж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нергични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ечење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тенз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Прогноз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58400" y="2598840"/>
            <a:ext cx="77914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Фактор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лош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огноз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величин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емато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змењен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тањ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в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одор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рв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мо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тариј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животн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до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Васкуларне болести мозг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Широ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пектар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чиј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сно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штеће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н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удов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з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к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том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звиј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гл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1" lang="sr-CS" sz="2400" spc="-1" strike="noStrike">
                <a:solidFill>
                  <a:srgbClr val="ffff66"/>
                </a:solidFill>
                <a:latin typeface="Comic Sans MS"/>
              </a:rPr>
              <a:t>мождани</a:t>
            </a:r>
            <a:r>
              <a:rPr b="1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Comic Sans MS"/>
              </a:rPr>
              <a:t>удар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шл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цереброваскулар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сул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Клиничк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лик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Ц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852156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1/3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емат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в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24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већ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1/3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горшањ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ви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ати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Знац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вишеног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нтракранијалног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ити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ремећај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тањ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в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Фокалн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знац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Еде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оз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Дијагностичк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поступак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Ц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КТ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без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контраст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је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ензитивнији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МРИ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веж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хемат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Некад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неопходн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ангиограф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Лечењ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Ц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66"/>
                </a:solidFill>
                <a:latin typeface="Comic Sans MS"/>
              </a:rPr>
              <a:t>Хирурш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ематом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церебелум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ј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горшавај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линички/имај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мпресиј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ожданог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таб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идроцефалус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ј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грожавај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жив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ематом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а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следиц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неуризм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В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алформ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линичк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горшањ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лађих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редњи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велики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упратенторијални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Ц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66"/>
                </a:solidFill>
                <a:latin typeface="Comic Sans MS"/>
              </a:rPr>
              <a:t>Нехируршко</a:t>
            </a:r>
            <a:r>
              <a:rPr b="0" lang="sr-Latn-C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ст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а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схемичног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RS" sz="2800" spc="-1" strike="noStrike">
                <a:solidFill>
                  <a:srgbClr val="ffffff"/>
                </a:solidFill>
                <a:latin typeface="Comic Sans MS"/>
              </a:rPr>
              <a:t>ТА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нижав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10-20%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виш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нег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ромбоз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венских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ину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1%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вих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Горњ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агиталн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ину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Латерал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авернозн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ромбоз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венских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ину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1428480"/>
            <a:ext cx="91440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Најчешћ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везан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трудноћ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уерперијум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потреб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нтрацептивних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илу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ематолошки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болестим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агулопатиј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лицитемиј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дехидратациј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отрахован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враћањ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нфекциј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редњег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х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инус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делов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лиц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запаљењски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болестим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аркоидоз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Л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траум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гла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арциноматоз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енинге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ромбоз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венских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ину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линич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ли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терог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авобољ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тор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нзитив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сп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пилептич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п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в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де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пи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кавернозн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инус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ап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мо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естез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о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фталмичк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ра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н. 5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фталмоплег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шу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чно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абучицо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ромбоз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венских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ину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јагно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Р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ључ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на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у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елт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”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омбо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гиталн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н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ромбоз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венских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ину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2852280"/>
            <a:ext cx="8007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Терап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нтикоагулантн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м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нтроверз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нтибиотиц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нижењ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нтракранијалног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ити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нтиконвулзивн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терапиј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88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Цереброваскуларни</a:t>
            </a:r>
            <a:r>
              <a:rPr b="1" lang="sr-Latn-CS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поремећаји</a:t>
            </a:r>
            <a:r>
              <a:rPr b="1" lang="sr-Latn-CS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кичмене</a:t>
            </a:r>
            <a:r>
              <a:rPr b="1" lang="sr-Latn-CS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мождине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ромбо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емораг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1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Мождани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удар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br>
              <a:rPr sz="4000"/>
            </a:b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Дефиниција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RS" sz="4000" spc="-1" strike="noStrike">
                <a:solidFill>
                  <a:srgbClr val="ffffb7"/>
                </a:solidFill>
                <a:latin typeface="Comic Sans MS"/>
              </a:rPr>
              <a:t>светске здравствене организациј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Нагл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ста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Фокал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конвулзив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ролошк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ј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трај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дуж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од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60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мину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Н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мож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открит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друг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разл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стал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аскуларн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зро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Мождани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удар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800748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Нагл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престанак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циркулације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оз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1. 8</a:t>
            </a:r>
            <a:r>
              <a:rPr b="1" lang="sr-RS" sz="2400" spc="-1" strike="noStrike">
                <a:solidFill>
                  <a:srgbClr val="ffffff"/>
                </a:solidFill>
                <a:latin typeface="Comic Sans MS"/>
              </a:rPr>
              <a:t>0-85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%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Исхемичн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тромбоз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артериј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емболиј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болест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алих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крвних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удов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криптоген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зроц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2. 1</a:t>
            </a:r>
            <a:r>
              <a:rPr b="1" lang="sr-RS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%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Хеморагичн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- САХ</a:t>
            </a:r>
            <a:r>
              <a:rPr b="1" lang="sr-Latn-R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1" lang="sr-RS" sz="2400" spc="-1" strike="noStrike">
                <a:solidFill>
                  <a:srgbClr val="ffffff"/>
                </a:solidFill>
                <a:latin typeface="Comic Sans MS"/>
              </a:rPr>
              <a:t>субарахноидална хемораг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- ИЦХ – интрацеребрална хемораг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Мождани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удар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Друг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зрок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мртност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вету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(200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рбиј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(2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Прв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зрок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мртност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жен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Друг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зрок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мртност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ушкарац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вак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45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кунд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к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жи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ва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3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инут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к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мр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Мождани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удар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орталитет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нутар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5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годин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- 6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нутар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10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годин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– 8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ранг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озбиљних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карцин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7:31:12Z</dcterms:created>
  <dc:creator>Goca Toncev</dc:creator>
  <dc:description/>
  <dc:language>en-US</dc:language>
  <cp:lastModifiedBy>Gordana Toncev</cp:lastModifiedBy>
  <dcterms:modified xsi:type="dcterms:W3CDTF">2020-09-26T09:09:55Z</dcterms:modified>
  <cp:revision>100</cp:revision>
  <dc:subject/>
  <dc:title>Cerebrovaskularne bolesti</dc:title>
</cp:coreProperties>
</file>